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C249D-ABF3-4B56-AC38-BE62C2C9D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E11D9-3EA3-4541-AA5A-092A75FD3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1C77A-B9A4-4822-BC0C-69E7A5BD4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0EFC9-79EA-4766-A609-487D6A3B2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871B3-D1F1-4583-AD22-02720F699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2983C-58C1-4AE2-BE9A-7EDC53B55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263D9-66EB-45B7-8D31-CAAA1A627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D620E-A012-4727-BD2F-041E38057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4FB3C-644A-43C9-AD90-BDA4AF014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DF443-0E9F-4CFD-82A5-64785F0D4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F9B01-BEE1-4860-BDF9-E046C0819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3CBAB-8FA8-4BB5-A989-F5A7D55BB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EF9B0-6442-4E4B-8C55-A9A87A0B4F9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2</cp:lastModifiedBy>
  <dcterms:modified xsi:type="dcterms:W3CDTF">2013-08-30T08:28:15Z</dcterms:modified>
  <cp:revision>3</cp:revision>
  <dc:subject/>
  <dc:title>Test content</dc:title>
</cp:coreProperties>
</file>