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868A-11C0-4CFF-B3CE-64BE9E023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5321-1669-4711-A886-1BE821696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5679-C867-4001-AEA9-185F74B7D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D374-FA84-4E52-9D7C-04F881558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3041B-01B8-4BDF-B6F0-C03B58EB7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7B4AA-D709-4E87-AD2C-C4FF2807E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CDFEF-3E42-42C5-BCDD-26E262086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05136-6702-4B8B-A0AA-14BCAD52B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DBD2-B0E0-4B62-B2C1-B487AB579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B8C37-9982-4E8D-ADDD-2F46D7719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58D5F-4693-418E-8B52-115C00003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BEA1A-ABC7-4CC1-A2D9-FC067A207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389C2-8F79-4962-AD04-29584007FC6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09Z</dcterms:modified>
  <cp:revision>4</cp:revision>
  <dc:subject/>
  <dc:title>Test content</dc:title>
</cp:coreProperties>
</file>