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47.png" ContentType="image/png"/>
  <Override PartName="/ppt/media/image10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1.jpeg" ContentType="image/jpeg"/>
  <Override PartName="/ppt/media/image21.png" ContentType="image/png"/>
  <Override PartName="/ppt/media/image58.png" ContentType="image/png"/>
  <Override PartName="/ppt/media/image35.png" ContentType="image/png"/>
  <Override PartName="/ppt/media/image26.png" ContentType="image/png"/>
  <Override PartName="/ppt/media/image63.png" ContentType="image/png"/>
  <Override PartName="/ppt/media/image28.png" ContentType="image/png"/>
  <Override PartName="/ppt/media/image25.png" ContentType="image/png"/>
  <Override PartName="/ppt/media/image62.png" ContentType="image/png"/>
  <Override PartName="/ppt/media/image61.png" ContentType="image/png"/>
  <Override PartName="/ppt/media/image24.png" ContentType="image/png"/>
  <Override PartName="/ppt/media/image59.png" ContentType="image/png"/>
  <Override PartName="/ppt/media/image22.png" ContentType="image/png"/>
  <Override PartName="/ppt/media/image60.png" ContentType="image/png"/>
  <Override PartName="/ppt/media/image23.png" ContentType="image/png"/>
  <Override PartName="/ppt/media/image20.png" ContentType="image/png"/>
  <Override PartName="/ppt/media/image57.png" ContentType="image/png"/>
  <Override PartName="/ppt/media/image5.png" ContentType="image/png"/>
  <Override PartName="/ppt/media/image1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31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51.png" ContentType="image/png"/>
  <Override PartName="/ppt/media/image52.png" ContentType="image/png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</p:sldMasterIdLst>
  <p:notesMasterIdLst>
    <p:notesMasterId r:id="rId28"/>
  </p:notesMasterIdLst>
  <p:sldIdLst>
    <p:sldId id="256" r:id="rId29"/>
    <p:sldId id="257" r:id="rId30"/>
    <p:sldId id="258" r:id="rId31"/>
    <p:sldId id="259" r:id="rId32"/>
    <p:sldId id="260" r:id="rId33"/>
    <p:sldId id="261" r:id="rId34"/>
    <p:sldId id="262" r:id="rId35"/>
    <p:sldId id="263" r:id="rId36"/>
    <p:sldId id="264" r:id="rId37"/>
    <p:sldId id="265" r:id="rId38"/>
    <p:sldId id="266" r:id="rId39"/>
    <p:sldId id="267" r:id="rId40"/>
    <p:sldId id="268" r:id="rId41"/>
    <p:sldId id="269" r:id="rId42"/>
    <p:sldId id="270" r:id="rId43"/>
    <p:sldId id="271" r:id="rId44"/>
    <p:sldId id="272" r:id="rId45"/>
    <p:sldId id="273" r:id="rId46"/>
    <p:sldId id="274" r:id="rId47"/>
    <p:sldId id="275" r:id="rId48"/>
    <p:sldId id="276" r:id="rId49"/>
    <p:sldId id="277" r:id="rId50"/>
    <p:sldId id="278" r:id="rId51"/>
    <p:sldId id="279" r:id="rId52"/>
    <p:sldId id="280" r:id="rId53"/>
    <p:sldId id="281" r:id="rId54"/>
    <p:sldId id="282" r:id="rId55"/>
    <p:sldId id="283" r:id="rId56"/>
    <p:sldId id="284" r:id="rId57"/>
    <p:sldId id="285" r:id="rId58"/>
    <p:sldId id="286" r:id="rId59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notesMaster" Target="notesMasters/notesMaster1.xml"/><Relationship Id="rId29" Type="http://schemas.openxmlformats.org/officeDocument/2006/relationships/slide" Target="slides/slide1.xml"/><Relationship Id="rId30" Type="http://schemas.openxmlformats.org/officeDocument/2006/relationships/slide" Target="slides/slide2.xml"/><Relationship Id="rId31" Type="http://schemas.openxmlformats.org/officeDocument/2006/relationships/slide" Target="slides/slide3.xml"/><Relationship Id="rId32" Type="http://schemas.openxmlformats.org/officeDocument/2006/relationships/slide" Target="slides/slide4.xml"/><Relationship Id="rId33" Type="http://schemas.openxmlformats.org/officeDocument/2006/relationships/slide" Target="slides/slide5.xml"/><Relationship Id="rId34" Type="http://schemas.openxmlformats.org/officeDocument/2006/relationships/slide" Target="slides/slide6.xml"/><Relationship Id="rId35" Type="http://schemas.openxmlformats.org/officeDocument/2006/relationships/slide" Target="slides/slide7.xml"/><Relationship Id="rId36" Type="http://schemas.openxmlformats.org/officeDocument/2006/relationships/slide" Target="slides/slide8.xml"/><Relationship Id="rId37" Type="http://schemas.openxmlformats.org/officeDocument/2006/relationships/slide" Target="slides/slide9.xml"/><Relationship Id="rId38" Type="http://schemas.openxmlformats.org/officeDocument/2006/relationships/slide" Target="slides/slide10.xml"/><Relationship Id="rId39" Type="http://schemas.openxmlformats.org/officeDocument/2006/relationships/slide" Target="slides/slide11.xml"/><Relationship Id="rId40" Type="http://schemas.openxmlformats.org/officeDocument/2006/relationships/slide" Target="slides/slide12.xml"/><Relationship Id="rId41" Type="http://schemas.openxmlformats.org/officeDocument/2006/relationships/slide" Target="slides/slide13.xml"/><Relationship Id="rId42" Type="http://schemas.openxmlformats.org/officeDocument/2006/relationships/slide" Target="slides/slide14.xml"/><Relationship Id="rId43" Type="http://schemas.openxmlformats.org/officeDocument/2006/relationships/slide" Target="slides/slide15.xml"/><Relationship Id="rId44" Type="http://schemas.openxmlformats.org/officeDocument/2006/relationships/slide" Target="slides/slide16.xml"/><Relationship Id="rId45" Type="http://schemas.openxmlformats.org/officeDocument/2006/relationships/slide" Target="slides/slide17.xml"/><Relationship Id="rId46" Type="http://schemas.openxmlformats.org/officeDocument/2006/relationships/slide" Target="slides/slide18.xml"/><Relationship Id="rId47" Type="http://schemas.openxmlformats.org/officeDocument/2006/relationships/slide" Target="slides/slide19.xml"/><Relationship Id="rId48" Type="http://schemas.openxmlformats.org/officeDocument/2006/relationships/slide" Target="slides/slide20.xml"/><Relationship Id="rId49" Type="http://schemas.openxmlformats.org/officeDocument/2006/relationships/slide" Target="slides/slide21.xml"/><Relationship Id="rId50" Type="http://schemas.openxmlformats.org/officeDocument/2006/relationships/slide" Target="slides/slide22.xml"/><Relationship Id="rId51" Type="http://schemas.openxmlformats.org/officeDocument/2006/relationships/slide" Target="slides/slide23.xml"/><Relationship Id="rId52" Type="http://schemas.openxmlformats.org/officeDocument/2006/relationships/slide" Target="slides/slide24.xml"/><Relationship Id="rId53" Type="http://schemas.openxmlformats.org/officeDocument/2006/relationships/slide" Target="slides/slide25.xml"/><Relationship Id="rId54" Type="http://schemas.openxmlformats.org/officeDocument/2006/relationships/slide" Target="slides/slide26.xml"/><Relationship Id="rId55" Type="http://schemas.openxmlformats.org/officeDocument/2006/relationships/slide" Target="slides/slide27.xml"/><Relationship Id="rId56" Type="http://schemas.openxmlformats.org/officeDocument/2006/relationships/slide" Target="slides/slide28.xml"/><Relationship Id="rId57" Type="http://schemas.openxmlformats.org/officeDocument/2006/relationships/slide" Target="slides/slide29.xml"/><Relationship Id="rId58" Type="http://schemas.openxmlformats.org/officeDocument/2006/relationships/slide" Target="slides/slide30.xml"/><Relationship Id="rId59" Type="http://schemas.openxmlformats.org/officeDocument/2006/relationships/slide" Target="slides/slide31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dt" idx="27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 type="ftr" idx="28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PlaceHolder 6"/>
          <p:cNvSpPr>
            <a:spLocks noGrp="1"/>
          </p:cNvSpPr>
          <p:nvPr>
            <p:ph type="sldNum" idx="29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DE7BE74-BAE5-4C7B-A4D5-C587016F793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7678DF6-559B-42FB-9F6A-2DF22C5FC6A6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C18F580-3E4D-4844-A84A-011C589F94F7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27DFB5E-1030-477C-9CAC-DCC239640AE7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D457DA2-662B-4860-A053-F86C5A2AEB4F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3E9DBDA-CD22-410F-8D00-E4F237C588C7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2D8253D-34FA-4E19-894E-24BA0A98953D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38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2616E75-7DE4-4A2B-AECA-1043946FD59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FEC57B5-16DC-4E94-B441-A7098CA58A1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2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2DB5C07-DE1B-4A67-97DF-18B1F379DC5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B4FE3E6-6B4A-4956-9539-8008711757D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4B16A58-8302-4DE3-B73C-0C40E1FE2CA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02BB7D9-3478-4946-9D08-1CA79237034A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3C97C8E-4471-40BA-98D3-049B4788423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0CD3CC7-7261-4F89-92E4-551BC590BFAC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F5B2D8A-0F96-48AE-972B-5476F8D72F7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2CD7BBE-1534-44CB-BB1F-FC44375A2636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41CEB24-D56B-4189-9598-E8B8175B0F42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F9DAAE6-37AF-4E4B-BEA3-A99B2829914C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CC78098-AD82-4B09-9933-9F53CEB5B5A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reate new site and import WQS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doc lib, pointing out things of interest: website metadata, folder structure, collections, section template confi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dit the port number for the editorial site, and remove the “isEditorial” fla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the website: into each section – blogs la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ake a look at the data list(s) that have been created (empt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ost a comment to a blog post, show it appear in the data li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ack to site – show the comment on the blog page (including coun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oad a new image into the news section (Koala) – show the rendition definitions for the news s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ind a news article on the website and point out its image. In Share, edit the primary image of that article to be the Koala. Show the change on the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to Share. Add a tag or two to some news arti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nto site: show the tags appear on the articles and the tag roll-up on the news landing p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end a “contact us” requ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 contact us request in the data list and the workflow task in admin user’s task li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ublish section structure some example articles (blogs?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m appear in Share and on the “live”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6A791CC-FE01-4F56-AC80-C67820F7B0F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92FEFB3-4005-4A9A-83D5-DC76A37705FF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30BB7CF-5E88-400A-B098-8DC76FCDA99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75CFC6D-D441-4186-B7A1-54CFE99CD377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AFC96D3-0969-4D46-A68A-CD6122A501F0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996BC92-0098-44D4-B088-847EB6BF7DB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F3639F-D926-4D8B-955C-76B5029E886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B6BB0E-1062-43F1-BEBF-F0A47DACB42B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5716A3-3C30-49EC-9784-A68AB74C9365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D14881-F40F-4125-8692-A9F679256128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F950F5-396D-4D4C-B8AE-0533C4DD7A3F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242D8F-845B-4A67-AEE9-34F4819D6C08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411F94-0335-4E27-8C2A-C3D21DFB35C9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66D7C4-6742-4FC3-9E36-A484E9428E3F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F3526B-96F8-41B5-9DDD-2773AF548E46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8B85C9-1236-4EBF-83E0-07DF2EFEBC88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2089B2-2CC7-42C2-9145-4E8B383DA59C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FD4C95F-ACEE-4244-BFCC-DB2E15D9F6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4B9966-C9AA-4B75-ACFF-0634D31319F5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252ABC6-4AAA-4436-8295-77CF12DAB278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8881989-F9C1-44BD-B1DC-0072BDACD0C9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259BDFC-E91B-44F1-9277-079EE19D781C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A9AEB10-8372-4199-ADEB-874D5B4F7F99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5212EE8-93DD-44F5-9443-8DC4FCF1D2F7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FD639DE-9D9C-49DB-A1F7-49A88FFFFB35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A4A0A4E-58EF-49A3-811A-D47E02351C51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D894733-6B54-42A6-A666-D259F6F521D5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1C07BBC-013D-4593-A3C4-AE70BAD2981B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C3E6E90-32EC-4751-9BB4-73DE1FD5C9C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98FBDB-39BD-4EC9-A880-3CE3DFEFE740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AFBBE9A-ACF7-4030-BD4D-0DCB091E86BD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25D392D-B9CD-4AC3-8E6E-120CB88F93EE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7B8A6BB-AF7F-434B-858B-9008243D1D5B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029A027-1118-44F5-B791-97091C9D95BB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D16CF06-4165-4961-9DA5-543C0FFBF1EA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AF65AEF-3698-46BE-97FE-CFD4D0B24675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62F5787-9041-4BA1-8EF7-BD365EB6A53C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AF1FF79-0105-4E83-BBA4-A194DF6819BD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D8942E9-ACF9-43DF-930E-08710580B50C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4B0685B-E4DA-4757-BD8A-46094CB7790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988A95-E25F-4DE2-AD23-86D900ACE218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79F8678-A7B4-4A8E-AFC7-AF1BCC5EBBFC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31C88DB-9E46-4F28-AFFA-82A44DEFC276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FD0182F-B03F-433E-AB66-1701D7B3D8C5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D5692A-30F2-468D-A633-37C6CA777C79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00D230-4026-40D1-8663-1D17489FDA20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0E7E18-5BD1-4EB8-8FB9-6DC9FBB8FA39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27D1C1-9EB1-40D4-B0FF-A455665174B5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AEA7A6-31C4-4086-AD10-10C3886AF963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BC4EA3-2B89-4B24-B295-FDFDFF1375A8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63E28B-33C4-4690-A70A-41655FE981E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EBDD5A-FE77-4B1D-A884-D2588625725E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B8C888-B5D4-45FD-AE34-DA77FC5747DD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D0FB9D-1B0A-43DE-B044-EEC504E0408C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BD7BF7-5623-4958-B18C-D42846F4C321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06E007-E7DE-4356-A50F-EB543B0D4358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A3A3DE-463C-41C4-84F1-6B793581E1E7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A4C4A02-F334-4306-8852-54C6E0C384E8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EC9DED1-07CB-45CF-8F92-788DEE1F6277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CA8350E-ECA2-4684-8E6E-0EDD86AA4BB3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DB3A2FC-07DA-4693-9ECC-5B8F2591BC4B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F611A91-18E8-4663-8A56-A767EA30A04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F03FF2-5272-4438-8302-430EF15573DF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60E86E5-0C48-43FC-B7E0-0F7249DFF7F8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17D0BBC-2061-4DDD-AD49-4A05403D2E99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8F6C5F0-582C-4B77-BB45-8702F9B319D4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1F344DD-2552-46BF-B5C9-BE68F025DEB1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CE497D1-F067-4577-B27F-EE40165BE11F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86D1E48-154D-47C4-868B-6E3393F6EBF7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3D3D27F-9608-4898-AB1C-FABD5BE15507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A683BAE-F19B-4CAB-A11F-5475819AF777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DD32C58-BB95-44FA-A7F0-A797568C4736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6F74162-C489-4836-B764-16BBE2A68A3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9AF00E-E3BB-459F-B6A1-32E8A23D2BDE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4C7E725-7DED-48B2-8759-D70C9E1C7A9C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BFD3DFB-35F5-440D-9993-E70BD61FACD7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9DDBEF9-3134-4074-97D2-16BD51F0BF67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90F83B9-2DAB-4E77-BC4E-E59116A3346D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634D149-FABF-4905-8382-DFDB31941DA2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A55123F-FFB0-4EC3-BDEA-B821B5AA337C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C7E7FC7-0099-4AA5-8388-3072A5A6B796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F277A29-D700-4F1F-BF07-6251CDF4BD4C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B7C4C5D-EE65-4BA4-BC7B-C024060FB746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35CCDC-5A34-430C-A52F-C295DCB05A8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625030-2274-4453-8456-D8DB20A8D8D0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A75989-467F-4008-ACF0-BE3F677F0A86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55891A-CD5B-4224-8D3C-DF12E96CFFA0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BB5AB7-61E7-4CB4-B5C1-D37FD8A697DA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B0C6A8-06DC-42D3-8EAD-8A5BC5A2E8B4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FBD552-C359-42BF-8964-631EEB20A837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6957D3-672C-4FF8-B3E3-ECA496679B2C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4D8E5E-4654-4D61-831B-DBB6EEFAA7CD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FF2E3C-323C-438C-9A6E-17A036401072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471260-C3D1-4D85-8D75-8EFF04AFF91E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2E35E5-BFF1-425A-BB63-FEAF52871C3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2FF1ED-D5ED-4B9B-9906-31D27FA3AC75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0D5EA0-DA48-4691-8EF9-D37C5279875A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1662A6E-9260-4927-8A5E-24EE4FC1B6E0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109FF9A-CEF5-4A96-A27D-2ED4E59113AD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6FC5B50-23F2-44DC-AFB9-225E52927CAE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021FEFA-1BA9-4E2C-8E54-7642A8EAF6B8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8F923F7-BA9F-4150-B70D-094304050DD2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CAB0E61-20F1-4FDA-AE48-0D421F0B9C83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9469BA3-6F8F-4CB7-A675-16C6CF7C0279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F441CAA-8B07-40FB-8457-A277F8B7CE70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F69C0C1-BE44-4420-9E08-24CBA9ACB7D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25E3F8-417B-4709-ADFD-6DC7443682DF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62EA774-EE29-4FE1-9C72-DC51D49105BC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A467363-1493-4923-B221-E07A12F27773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9B7FE0D-B546-4E7E-BC47-880EE99A24B1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F35C2CB-567B-4BBF-A61B-716BF9F232DC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0A4EDA7-C6DB-4CB1-91EE-CD0ECB13A705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BF231A0-2C9E-48D1-BDD1-444C53141FEF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766141D-43CC-4403-B976-29B737335677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1FAB0D2-859F-44CB-AAB4-27AEB55A7572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AE59E44-32CE-4DA6-B9E3-FD3467216E2C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C04E91D-F28A-45F0-BA73-1E185E1FD0C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3E470F-8F96-46C3-8792-8D78F5852CB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612879-EC36-48CB-A5F3-26B1300E4F4F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E95B300-1FAB-499F-864F-C20DDC1DD794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314AE83-2D29-4F6C-A5A9-66DF52322AE6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2DA356A-10B5-4B69-9FAB-EEE27F9B7AAB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D3EF769-6C26-40DB-ADBF-0C0A49A51E67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59231D2-E9F6-42E3-A212-D00E7EB332C4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792AF4-DBB8-4C0F-87B8-BAFA5E62395A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E7BE42-097E-469C-BFAC-A537B4A7563A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0063AC-E5F7-4478-8106-F64D7F38E743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237C9A-B660-45ED-A5BD-D34B2E716829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FB50DD-5AAF-4EB2-A024-6FE105CE3D6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C9FDCF-F2A6-4126-B1E4-8ABA4D635452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40024F-6FD3-4A5E-BAB0-E1FE4585FF54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87630D-9194-47D5-BF85-2625E2B51440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B56F3E-7DF9-45B5-ADE5-CC818C05367D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0EE2B8-4923-41F6-8C69-32DEE0BA30B1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F0014B-6CEC-4914-89AB-B13CC4556477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9C9278-0CB9-44F5-B4AA-019F5F2E55BE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9986E1-98E4-430E-8493-785C4DBE54E4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61206F8-48C1-4BAB-9550-6A46CF91DB9A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0851109-BE3D-4148-BC05-7744DCBB2D4F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E233050-CC97-4FD7-880F-3EF72C6971B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29EBA4-BA95-4E2E-93E2-94830BAE6FBB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B029937-8783-4B62-91FD-62D8892C16CB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FC6B3A0-0C7E-44A8-B72B-F07DA7D7F4C3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157F984-34EA-471A-BF70-C2DF9E647A44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1D9428E-D951-4E58-8D75-0E30B5F2078F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B79953B-E446-418E-A824-1C697FAE47DB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D7DD5ED-DF1A-481A-8117-44C0445849A5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7849114-95BC-464B-93C7-536CCF8E7F3A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76B3934-EC7D-4DA8-8D2F-B735D4A92236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3F26F23-3901-4BFA-BCF6-FBF7FB1EE918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A541CE3-1EE2-4414-BBE4-BC3FA0B7E2A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85F76A-641E-4F6D-8A4D-FE99792EC680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4068CCF-8BFA-4120-8E73-8CC47C28F352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126A896-6DAB-4A35-A269-F51564E25834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A3D85D4-151B-4F9F-B196-F72BE27503EE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1AFD0B7-D7FD-4793-B0CC-EC796A3327D8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5C04330-025F-4C0D-9CB4-D241465B9709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E162FC7-471C-47DB-8A18-A93810CF7A61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C3E80CF-F7A9-44DB-A7CC-C49A1CB0B4D1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F7FEE6D-0980-403F-8DD6-ACF0767F7425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1596648-672A-468F-A845-0CBAD0D18984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9D6BF64-7109-47C0-8AFD-0EB741DF0ED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BE3617-8E8F-426E-82D3-DF9591FD8D4E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F95D5FE-68BF-485C-B727-E02B97269128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0C20E1-ADB2-4206-8C3B-F05ABF3AF91C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9ACA1F-D450-4E13-89F6-359250C058CE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5F09B8-14EF-45FD-8ED7-E986E555073A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8C5AE5-DAA2-4ED6-AA79-3036AD47F479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86BD9F-F0AF-4B73-B1C7-B03FFF5F5533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9085D9-B032-484F-B5A2-4EE9BF87583C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373CD8-0AB1-4C15-8E5E-A621C19E5CAA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4DC23F-16F8-4549-94F7-3CA57529307F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77FD59-E93A-4EAF-A53D-911F1D2629E5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ACBC1-B255-47D6-88DB-8AEB4334246C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3DD3EC-63E3-43C9-AC72-88BD12C8EA09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1493CB-64D8-4ED3-A669-6A6DCFD12CFF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40E4F4-356A-4D52-9381-46EA77EF8580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2841A2E-66A4-429E-A402-A972178EE635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7ED5774-9FED-4FAB-8467-5AE113E0FF11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0059988-AE67-4FA6-BF67-B29D8B9D6369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21EDDC7-FC5D-4BE3-9CB1-3DD9E15CE7B7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784557D-5418-4DE8-8243-4BBB4669EC2E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8F4B589-554E-4DD6-9ECC-1739EB9962F4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F96CD76-28C2-45A0-94A1-3737D3EC67C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B3336-9062-48DA-9533-6E299D2AE2CB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061F486-1046-48F4-A072-19A602DCC6C4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43DCA27-A017-4562-ABBC-4AABDEFC6547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75F76B4-21A0-4BE2-945F-B33DDB649988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0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B1BA95C-504B-4BDF-97DE-65EC982870FD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6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7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C07EBCA-737B-4A1B-BE7D-D8859DDB2BE3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55FF098-89FC-45F8-BD7E-ECF99D0D032B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3347C0C-DD2E-4EAE-AE36-B1A8A0E627A0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B744083-8DF6-4DD6-9221-6356BBEA93E0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1469108-1F4A-4A0B-B8D7-E7A465EC5E54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AF9692F-B4D1-4D2D-9A7D-796BFDCC3A5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91ADE-3E0C-414C-8DD5-D8C622DC193F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F6D3755-C4FA-4447-85AF-D8A331075002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4702645-5111-4D8C-9C63-D982C2754C10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F58F0F6-ACEC-4F29-B3CD-59725E3BD150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74F38D1-759C-4B1C-B72A-5309F2009B75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78A4103-7A76-4F5B-8598-FA3BD924C8C7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37769E0-C8F6-4643-85B6-79A9534514B6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2DF036D-E030-4ECB-B2A2-448F0B1DB71B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38BDE3-DCED-4888-9E45-F9C45D296D31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A6CA6C-0236-46CB-AD3C-1B1750D13536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83337C-D9AD-48E4-99DB-18EEC2809D3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9FE8F-D931-463A-93F0-5EEB806588F8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6952EC-14D7-4DB7-9B52-E18E1024334A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F640E2-9939-40C9-88DC-B3893FD04FB8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E2CDF9-A875-4E78-9B26-95D25781B285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580FAE-8AD2-494C-AFCD-BD1CD1F9875A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7C6695-3103-47E3-AC8A-BF1CA6AFEA5B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77D01F-E3B2-4B1A-990A-942DCDBF6B6B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7F075D-4CB1-4FC3-95F0-9BDE1CA3680A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515494-7937-4102-B6C8-54BFAECC38A2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2732A7-295D-4092-B7D8-FC09BEA428B7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FDA0E68-21BB-4120-A9F1-EA647F9E5D9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39B05-A1F5-4F19-9597-B37EF231ECF3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D609DF6-4A25-45CB-9BD7-4C4027410F53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67FED59-F7E2-48F8-9207-1E3ED8A6B71A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BB86184-E659-443E-A17C-42E54DA5527F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9694FF0-63FE-48BD-973E-79AD5060B911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3B684A7-2C28-44C3-B99E-3531F8CA193F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F616BEE-60D2-47AB-9A62-FA920A6739C1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E6C5533-D1D6-42BE-8B91-DCFCC1553D6C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EC84036-574F-4EC1-9E1F-318F1EB99760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81EB8E3-EB44-4E7B-BFFE-3CA7819DCF9A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170EDD4-4F66-4D8F-BC3F-401D9075247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EDAD44-CBD6-4D4B-8ADD-CCBBEFB89BA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AA2E4-C38C-49A4-9FD2-B2134E448F7F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5542F61-6AC6-4D08-8B1E-ADE45A9F8CAC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854D6B8-DAC8-42C0-A9F2-0516FC5A85F6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91B0538-3E45-4F3A-9CDF-65F8153A22AA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D135EA7-3E10-4754-A0A1-F8F666D2E6A4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3D832F5-456D-456F-848D-0DE5539D4D46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C8474BE-0D73-425D-865B-535E97613166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1117845-1D6B-4805-8602-AF0E71CBBA9D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64CDDBC-158A-4466-BB8A-C35AE3D5FEDF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00C99D8-89A4-4391-9B97-48CE760C384C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1656162-2480-4F28-AF21-B638ED5BF12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B5049-BFDA-4114-9655-DCE305A48503}" type="slidenum">
              <a:t>&lt;#&gt;</a:t>
            </a:fld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00D9FAD-4A8B-44E0-B5A9-724C14588F1F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FA94676-282C-4046-BC98-C54847BF671C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472F713-2E50-4D99-96D5-0BE59F50A2E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D15CB-C22F-45E4-9243-EE4943DA430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B7F2F-F662-4485-AFB9-E0D9416950D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651CD-6228-436E-9AB2-77B7E8C9357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E996D-653A-4BC3-A7DA-EEE88122228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1DD66-4536-4364-B232-9A2C34E77657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C4DF72-4F88-41B0-BA29-2907C4C51856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0B9F27-E7D9-491B-9F33-1803FAE8A9F2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8EBFC3-B60B-4ABA-9EE6-1279A43C22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334FFA-AEA6-455E-A0FB-C26C341E5160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B65CB1-E8EA-405A-B9BF-06A2D84119B4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FFF193-4AF7-4013-B47C-E34DFE175FC5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CB10ED-1B30-4932-95BF-B959CCF27492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29BFE6-B14D-40B8-8970-06EA27C0246D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D993C2-AD00-4288-89C2-9B942C9B129A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89DDDE-D72B-4281-8080-E135FDD3C066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7FD622-2090-45FE-953A-85EC9D7B7D14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3874BC-69DB-4FE9-9C55-F086FA29C564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68FEC0-9EE0-4F68-B991-0EB9BF64967B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D40E9D-7B5D-4659-853E-7DB2C28F8B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7C1353-C25F-4F3E-AE4C-10D23043BD1C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02A57A-B638-4CE3-A8BC-14E8ECDFF090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AEBC39-A70B-4BC1-A991-B16C7AC09017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720E39-8087-4642-868E-19D27ABA12F4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ECC349-728A-44A9-88EF-7DFFE14B7E09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806C15-BCA8-4D83-AFAA-8C5F709FC53D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C5237D-9C58-485A-A4F3-25D5CF37882A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F63599-7E24-43C5-8C24-EB4331F7DC7D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B5683A-8F06-4D2D-B6F6-02A3F766448D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47AF72-EFC2-40FC-BCB1-D8451B6F8276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DD3774-E74F-44A5-8D11-5CD9D8F5DE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90E2B0-7DAE-40B1-9BDD-8AD8BFC483CF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4B5566-C7B0-46E1-96A0-C0BBA5F3CEF9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6AB8B-7C74-4F2F-A4A5-0C40E91BB382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B4243-F2AF-4410-B329-321DA1AC405F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E5FC3-7296-41C8-B964-4B1EF34189AC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FECA1-E462-4DE3-8138-72CE2F9BC9A7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21502-44E9-4D9C-AEE8-8EE09D0361CA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3DA6C-A514-4499-90C0-38E53A6D5E89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3EF4C-0B48-4686-BAF0-441ADE8DBD1A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A5163-3E21-4C39-B654-C779AD302420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0E908-3B3E-4D9D-AB71-C06F11F96D4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4F4C6F-0F2B-4D4F-88E3-E27A68BD7D35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D2964-0D0A-461F-9AF9-28E15ED0DEF6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A8BB6-8547-4ABD-8DB3-4370C59066FB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3AC67-75DA-4A00-9062-6CE849E9C246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2E6EAD6-7DF7-4BD8-B772-F9355A71EE10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85090E8-FACD-4B6A-AC22-A333372B7A87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1300643-75AF-4E5F-9C39-52E5932BC7DB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BC4C05B-0710-400A-ACD2-01FC291E76E6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7D1A5DE-C023-4568-9028-A3B083654E8E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AA642B7-4E23-4994-9729-8D016471802A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6F2DF88-315A-4D17-A410-ACD4F993904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706948-120D-4D50-B830-0C8AA879477F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E400D50-1E12-4ECF-B92C-B70DDB2B1E18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DE00393-66F9-4FA2-A4D0-54725FDAC26A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ADD846D-79FF-4E4C-AA46-1FE66BD9D075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525D87F-3DD7-400B-B521-E571ECC283BA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885D286-676C-4DF3-88FB-7F1509E179CD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D208CDD-2DF0-460E-8A88-C94CF230053B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02B2BBA-36D0-4604-BA64-06149DE98E48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5581141-C04B-46D6-BFFD-364EB09BD7D4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3CE9430-77A5-41E5-9A0E-DFF7A2B4D575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C31F526-30F8-48D1-9153-81D802A2916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B55EC7-CAEB-4E43-A229-CDAEC87B68C8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6C738C2-B53E-49E1-9126-E839BBCF89D5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74D6812-05B0-4573-BD5F-AB17AF91D2B3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7AA5288-7571-4363-9563-7675588F42C8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B8CF7BE-373B-4E1B-8B55-B9DE9898C4DA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B31DD9D-6C54-436F-8D50-F26848B5ACFD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06B1EC5-F30D-413C-8164-812B537D00B3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B0DC8E1-7DFD-4F23-821B-1D56CEDFEA72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FC3894-503D-4D55-8506-0546EC71AC7D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62E44C-22BB-4BB7-AF59-C71E71D0F682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181D80-F988-4B15-9D07-53238D2C2C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81.xml"/><Relationship Id="rId6" Type="http://schemas.openxmlformats.org/officeDocument/2006/relationships/slideLayout" Target="../slideLayouts/slideLayout182.xml"/><Relationship Id="rId7" Type="http://schemas.openxmlformats.org/officeDocument/2006/relationships/slideLayout" Target="../slideLayouts/slideLayout183.xml"/><Relationship Id="rId8" Type="http://schemas.openxmlformats.org/officeDocument/2006/relationships/slideLayout" Target="../slideLayouts/slideLayout184.xml"/><Relationship Id="rId9" Type="http://schemas.openxmlformats.org/officeDocument/2006/relationships/slideLayout" Target="../slideLayouts/slideLayout185.xml"/><Relationship Id="rId10" Type="http://schemas.openxmlformats.org/officeDocument/2006/relationships/slideLayout" Target="../slideLayouts/slideLayout186.xml"/><Relationship Id="rId11" Type="http://schemas.openxmlformats.org/officeDocument/2006/relationships/slideLayout" Target="../slideLayouts/slideLayout187.xml"/><Relationship Id="rId12" Type="http://schemas.openxmlformats.org/officeDocument/2006/relationships/slideLayout" Target="../slideLayouts/slideLayout188.xml"/><Relationship Id="rId13" Type="http://schemas.openxmlformats.org/officeDocument/2006/relationships/slideLayout" Target="../slideLayouts/slideLayout189.xml"/><Relationship Id="rId14" Type="http://schemas.openxmlformats.org/officeDocument/2006/relationships/slideLayout" Target="../slideLayouts/slideLayout190.xml"/><Relationship Id="rId15" Type="http://schemas.openxmlformats.org/officeDocument/2006/relationships/slideLayout" Target="../slideLayouts/slideLayout191.xml"/><Relationship Id="rId16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93.xml"/><Relationship Id="rId6" Type="http://schemas.openxmlformats.org/officeDocument/2006/relationships/slideLayout" Target="../slideLayouts/slideLayout194.xml"/><Relationship Id="rId7" Type="http://schemas.openxmlformats.org/officeDocument/2006/relationships/slideLayout" Target="../slideLayouts/slideLayout195.xml"/><Relationship Id="rId8" Type="http://schemas.openxmlformats.org/officeDocument/2006/relationships/slideLayout" Target="../slideLayouts/slideLayout196.xml"/><Relationship Id="rId9" Type="http://schemas.openxmlformats.org/officeDocument/2006/relationships/slideLayout" Target="../slideLayouts/slideLayout197.xml"/><Relationship Id="rId10" Type="http://schemas.openxmlformats.org/officeDocument/2006/relationships/slideLayout" Target="../slideLayouts/slideLayout198.xml"/><Relationship Id="rId11" Type="http://schemas.openxmlformats.org/officeDocument/2006/relationships/slideLayout" Target="../slideLayouts/slideLayout199.xml"/><Relationship Id="rId12" Type="http://schemas.openxmlformats.org/officeDocument/2006/relationships/slideLayout" Target="../slideLayouts/slideLayout200.xml"/><Relationship Id="rId13" Type="http://schemas.openxmlformats.org/officeDocument/2006/relationships/slideLayout" Target="../slideLayouts/slideLayout201.xml"/><Relationship Id="rId14" Type="http://schemas.openxmlformats.org/officeDocument/2006/relationships/slideLayout" Target="../slideLayouts/slideLayout202.xml"/><Relationship Id="rId15" Type="http://schemas.openxmlformats.org/officeDocument/2006/relationships/slideLayout" Target="../slideLayouts/slideLayout203.xml"/><Relationship Id="rId16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05.xml"/><Relationship Id="rId6" Type="http://schemas.openxmlformats.org/officeDocument/2006/relationships/slideLayout" Target="../slideLayouts/slideLayout206.xml"/><Relationship Id="rId7" Type="http://schemas.openxmlformats.org/officeDocument/2006/relationships/slideLayout" Target="../slideLayouts/slideLayout207.xml"/><Relationship Id="rId8" Type="http://schemas.openxmlformats.org/officeDocument/2006/relationships/slideLayout" Target="../slideLayouts/slideLayout208.xml"/><Relationship Id="rId9" Type="http://schemas.openxmlformats.org/officeDocument/2006/relationships/slideLayout" Target="../slideLayouts/slideLayout209.xml"/><Relationship Id="rId10" Type="http://schemas.openxmlformats.org/officeDocument/2006/relationships/slideLayout" Target="../slideLayouts/slideLayout210.xml"/><Relationship Id="rId11" Type="http://schemas.openxmlformats.org/officeDocument/2006/relationships/slideLayout" Target="../slideLayouts/slideLayout211.xml"/><Relationship Id="rId12" Type="http://schemas.openxmlformats.org/officeDocument/2006/relationships/slideLayout" Target="../slideLayouts/slideLayout212.xml"/><Relationship Id="rId13" Type="http://schemas.openxmlformats.org/officeDocument/2006/relationships/slideLayout" Target="../slideLayouts/slideLayout213.xml"/><Relationship Id="rId14" Type="http://schemas.openxmlformats.org/officeDocument/2006/relationships/slideLayout" Target="../slideLayouts/slideLayout214.xml"/><Relationship Id="rId15" Type="http://schemas.openxmlformats.org/officeDocument/2006/relationships/slideLayout" Target="../slideLayouts/slideLayout215.xml"/><Relationship Id="rId16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17.xml"/><Relationship Id="rId6" Type="http://schemas.openxmlformats.org/officeDocument/2006/relationships/slideLayout" Target="../slideLayouts/slideLayout218.xml"/><Relationship Id="rId7" Type="http://schemas.openxmlformats.org/officeDocument/2006/relationships/slideLayout" Target="../slideLayouts/slideLayout219.xml"/><Relationship Id="rId8" Type="http://schemas.openxmlformats.org/officeDocument/2006/relationships/slideLayout" Target="../slideLayouts/slideLayout220.xml"/><Relationship Id="rId9" Type="http://schemas.openxmlformats.org/officeDocument/2006/relationships/slideLayout" Target="../slideLayouts/slideLayout221.xml"/><Relationship Id="rId10" Type="http://schemas.openxmlformats.org/officeDocument/2006/relationships/slideLayout" Target="../slideLayouts/slideLayout222.xml"/><Relationship Id="rId11" Type="http://schemas.openxmlformats.org/officeDocument/2006/relationships/slideLayout" Target="../slideLayouts/slideLayout223.xml"/><Relationship Id="rId12" Type="http://schemas.openxmlformats.org/officeDocument/2006/relationships/slideLayout" Target="../slideLayouts/slideLayout224.xml"/><Relationship Id="rId13" Type="http://schemas.openxmlformats.org/officeDocument/2006/relationships/slideLayout" Target="../slideLayouts/slideLayout225.xml"/><Relationship Id="rId14" Type="http://schemas.openxmlformats.org/officeDocument/2006/relationships/slideLayout" Target="../slideLayouts/slideLayout226.xml"/><Relationship Id="rId15" Type="http://schemas.openxmlformats.org/officeDocument/2006/relationships/slideLayout" Target="../slideLayouts/slideLayout227.xml"/><Relationship Id="rId16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29.xml"/><Relationship Id="rId6" Type="http://schemas.openxmlformats.org/officeDocument/2006/relationships/slideLayout" Target="../slideLayouts/slideLayout230.xml"/><Relationship Id="rId7" Type="http://schemas.openxmlformats.org/officeDocument/2006/relationships/slideLayout" Target="../slideLayouts/slideLayout231.xml"/><Relationship Id="rId8" Type="http://schemas.openxmlformats.org/officeDocument/2006/relationships/slideLayout" Target="../slideLayouts/slideLayout232.xml"/><Relationship Id="rId9" Type="http://schemas.openxmlformats.org/officeDocument/2006/relationships/slideLayout" Target="../slideLayouts/slideLayout233.xml"/><Relationship Id="rId10" Type="http://schemas.openxmlformats.org/officeDocument/2006/relationships/slideLayout" Target="../slideLayouts/slideLayout234.xml"/><Relationship Id="rId11" Type="http://schemas.openxmlformats.org/officeDocument/2006/relationships/slideLayout" Target="../slideLayouts/slideLayout235.xml"/><Relationship Id="rId12" Type="http://schemas.openxmlformats.org/officeDocument/2006/relationships/slideLayout" Target="../slideLayouts/slideLayout236.xml"/><Relationship Id="rId13" Type="http://schemas.openxmlformats.org/officeDocument/2006/relationships/slideLayout" Target="../slideLayouts/slideLayout237.xml"/><Relationship Id="rId14" Type="http://schemas.openxmlformats.org/officeDocument/2006/relationships/slideLayout" Target="../slideLayouts/slideLayout238.xml"/><Relationship Id="rId15" Type="http://schemas.openxmlformats.org/officeDocument/2006/relationships/slideLayout" Target="../slideLayouts/slideLayout239.xml"/><Relationship Id="rId16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41.xml"/><Relationship Id="rId6" Type="http://schemas.openxmlformats.org/officeDocument/2006/relationships/slideLayout" Target="../slideLayouts/slideLayout242.xml"/><Relationship Id="rId7" Type="http://schemas.openxmlformats.org/officeDocument/2006/relationships/slideLayout" Target="../slideLayouts/slideLayout243.xml"/><Relationship Id="rId8" Type="http://schemas.openxmlformats.org/officeDocument/2006/relationships/slideLayout" Target="../slideLayouts/slideLayout244.xml"/><Relationship Id="rId9" Type="http://schemas.openxmlformats.org/officeDocument/2006/relationships/slideLayout" Target="../slideLayouts/slideLayout245.xml"/><Relationship Id="rId10" Type="http://schemas.openxmlformats.org/officeDocument/2006/relationships/slideLayout" Target="../slideLayouts/slideLayout246.xml"/><Relationship Id="rId11" Type="http://schemas.openxmlformats.org/officeDocument/2006/relationships/slideLayout" Target="../slideLayouts/slideLayout247.xml"/><Relationship Id="rId12" Type="http://schemas.openxmlformats.org/officeDocument/2006/relationships/slideLayout" Target="../slideLayouts/slideLayout248.xml"/><Relationship Id="rId13" Type="http://schemas.openxmlformats.org/officeDocument/2006/relationships/slideLayout" Target="../slideLayouts/slideLayout249.xml"/><Relationship Id="rId14" Type="http://schemas.openxmlformats.org/officeDocument/2006/relationships/slideLayout" Target="../slideLayouts/slideLayout250.xml"/><Relationship Id="rId15" Type="http://schemas.openxmlformats.org/officeDocument/2006/relationships/slideLayout" Target="../slideLayouts/slideLayout251.xml"/><Relationship Id="rId16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3.xml"/><Relationship Id="rId6" Type="http://schemas.openxmlformats.org/officeDocument/2006/relationships/slideLayout" Target="../slideLayouts/slideLayout254.xml"/><Relationship Id="rId7" Type="http://schemas.openxmlformats.org/officeDocument/2006/relationships/slideLayout" Target="../slideLayouts/slideLayout255.xml"/><Relationship Id="rId8" Type="http://schemas.openxmlformats.org/officeDocument/2006/relationships/slideLayout" Target="../slideLayouts/slideLayout256.xml"/><Relationship Id="rId9" Type="http://schemas.openxmlformats.org/officeDocument/2006/relationships/slideLayout" Target="../slideLayouts/slideLayout257.xml"/><Relationship Id="rId10" Type="http://schemas.openxmlformats.org/officeDocument/2006/relationships/slideLayout" Target="../slideLayouts/slideLayout258.xml"/><Relationship Id="rId11" Type="http://schemas.openxmlformats.org/officeDocument/2006/relationships/slideLayout" Target="../slideLayouts/slideLayout259.xml"/><Relationship Id="rId12" Type="http://schemas.openxmlformats.org/officeDocument/2006/relationships/slideLayout" Target="../slideLayouts/slideLayout260.xml"/><Relationship Id="rId13" Type="http://schemas.openxmlformats.org/officeDocument/2006/relationships/slideLayout" Target="../slideLayouts/slideLayout261.xml"/><Relationship Id="rId14" Type="http://schemas.openxmlformats.org/officeDocument/2006/relationships/slideLayout" Target="../slideLayouts/slideLayout262.xml"/><Relationship Id="rId15" Type="http://schemas.openxmlformats.org/officeDocument/2006/relationships/slideLayout" Target="../slideLayouts/slideLayout263.xml"/><Relationship Id="rId16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65.xml"/><Relationship Id="rId6" Type="http://schemas.openxmlformats.org/officeDocument/2006/relationships/slideLayout" Target="../slideLayouts/slideLayout266.xml"/><Relationship Id="rId7" Type="http://schemas.openxmlformats.org/officeDocument/2006/relationships/slideLayout" Target="../slideLayouts/slideLayout267.xml"/><Relationship Id="rId8" Type="http://schemas.openxmlformats.org/officeDocument/2006/relationships/slideLayout" Target="../slideLayouts/slideLayout268.xml"/><Relationship Id="rId9" Type="http://schemas.openxmlformats.org/officeDocument/2006/relationships/slideLayout" Target="../slideLayouts/slideLayout269.xml"/><Relationship Id="rId10" Type="http://schemas.openxmlformats.org/officeDocument/2006/relationships/slideLayout" Target="../slideLayouts/slideLayout270.xml"/><Relationship Id="rId11" Type="http://schemas.openxmlformats.org/officeDocument/2006/relationships/slideLayout" Target="../slideLayouts/slideLayout271.xml"/><Relationship Id="rId12" Type="http://schemas.openxmlformats.org/officeDocument/2006/relationships/slideLayout" Target="../slideLayouts/slideLayout272.xml"/><Relationship Id="rId13" Type="http://schemas.openxmlformats.org/officeDocument/2006/relationships/slideLayout" Target="../slideLayouts/slideLayout273.xml"/><Relationship Id="rId14" Type="http://schemas.openxmlformats.org/officeDocument/2006/relationships/slideLayout" Target="../slideLayouts/slideLayout274.xml"/><Relationship Id="rId15" Type="http://schemas.openxmlformats.org/officeDocument/2006/relationships/slideLayout" Target="../slideLayouts/slideLayout275.xml"/><Relationship Id="rId16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77.xml"/><Relationship Id="rId6" Type="http://schemas.openxmlformats.org/officeDocument/2006/relationships/slideLayout" Target="../slideLayouts/slideLayout278.xml"/><Relationship Id="rId7" Type="http://schemas.openxmlformats.org/officeDocument/2006/relationships/slideLayout" Target="../slideLayouts/slideLayout279.xml"/><Relationship Id="rId8" Type="http://schemas.openxmlformats.org/officeDocument/2006/relationships/slideLayout" Target="../slideLayouts/slideLayout280.xml"/><Relationship Id="rId9" Type="http://schemas.openxmlformats.org/officeDocument/2006/relationships/slideLayout" Target="../slideLayouts/slideLayout281.xml"/><Relationship Id="rId10" Type="http://schemas.openxmlformats.org/officeDocument/2006/relationships/slideLayout" Target="../slideLayouts/slideLayout282.xml"/><Relationship Id="rId11" Type="http://schemas.openxmlformats.org/officeDocument/2006/relationships/slideLayout" Target="../slideLayouts/slideLayout283.xml"/><Relationship Id="rId12" Type="http://schemas.openxmlformats.org/officeDocument/2006/relationships/slideLayout" Target="../slideLayouts/slideLayout284.xml"/><Relationship Id="rId13" Type="http://schemas.openxmlformats.org/officeDocument/2006/relationships/slideLayout" Target="../slideLayouts/slideLayout285.xml"/><Relationship Id="rId14" Type="http://schemas.openxmlformats.org/officeDocument/2006/relationships/slideLayout" Target="../slideLayouts/slideLayout286.xml"/><Relationship Id="rId15" Type="http://schemas.openxmlformats.org/officeDocument/2006/relationships/slideLayout" Target="../slideLayouts/slideLayout287.xml"/><Relationship Id="rId16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89.xml"/><Relationship Id="rId6" Type="http://schemas.openxmlformats.org/officeDocument/2006/relationships/slideLayout" Target="../slideLayouts/slideLayout290.xml"/><Relationship Id="rId7" Type="http://schemas.openxmlformats.org/officeDocument/2006/relationships/slideLayout" Target="../slideLayouts/slideLayout291.xml"/><Relationship Id="rId8" Type="http://schemas.openxmlformats.org/officeDocument/2006/relationships/slideLayout" Target="../slideLayouts/slideLayout292.xml"/><Relationship Id="rId9" Type="http://schemas.openxmlformats.org/officeDocument/2006/relationships/slideLayout" Target="../slideLayouts/slideLayout293.xml"/><Relationship Id="rId10" Type="http://schemas.openxmlformats.org/officeDocument/2006/relationships/slideLayout" Target="../slideLayouts/slideLayout294.xml"/><Relationship Id="rId11" Type="http://schemas.openxmlformats.org/officeDocument/2006/relationships/slideLayout" Target="../slideLayouts/slideLayout295.xml"/><Relationship Id="rId12" Type="http://schemas.openxmlformats.org/officeDocument/2006/relationships/slideLayout" Target="../slideLayouts/slideLayout296.xml"/><Relationship Id="rId13" Type="http://schemas.openxmlformats.org/officeDocument/2006/relationships/slideLayout" Target="../slideLayouts/slideLayout297.xml"/><Relationship Id="rId14" Type="http://schemas.openxmlformats.org/officeDocument/2006/relationships/slideLayout" Target="../slideLayouts/slideLayout298.xml"/><Relationship Id="rId15" Type="http://schemas.openxmlformats.org/officeDocument/2006/relationships/slideLayout" Target="../slideLayouts/slideLayout299.xml"/><Relationship Id="rId16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01.xml"/><Relationship Id="rId6" Type="http://schemas.openxmlformats.org/officeDocument/2006/relationships/slideLayout" Target="../slideLayouts/slideLayout302.xml"/><Relationship Id="rId7" Type="http://schemas.openxmlformats.org/officeDocument/2006/relationships/slideLayout" Target="../slideLayouts/slideLayout303.xml"/><Relationship Id="rId8" Type="http://schemas.openxmlformats.org/officeDocument/2006/relationships/slideLayout" Target="../slideLayouts/slideLayout304.xml"/><Relationship Id="rId9" Type="http://schemas.openxmlformats.org/officeDocument/2006/relationships/slideLayout" Target="../slideLayouts/slideLayout305.xml"/><Relationship Id="rId10" Type="http://schemas.openxmlformats.org/officeDocument/2006/relationships/slideLayout" Target="../slideLayouts/slideLayout306.xml"/><Relationship Id="rId11" Type="http://schemas.openxmlformats.org/officeDocument/2006/relationships/slideLayout" Target="../slideLayouts/slideLayout307.xml"/><Relationship Id="rId12" Type="http://schemas.openxmlformats.org/officeDocument/2006/relationships/slideLayout" Target="../slideLayouts/slideLayout308.xml"/><Relationship Id="rId13" Type="http://schemas.openxmlformats.org/officeDocument/2006/relationships/slideLayout" Target="../slideLayouts/slideLayout309.xml"/><Relationship Id="rId14" Type="http://schemas.openxmlformats.org/officeDocument/2006/relationships/slideLayout" Target="../slideLayouts/slideLayout310.xml"/><Relationship Id="rId15" Type="http://schemas.openxmlformats.org/officeDocument/2006/relationships/slideLayout" Target="../slideLayouts/slideLayout311.xml"/><Relationship Id="rId16" Type="http://schemas.openxmlformats.org/officeDocument/2006/relationships/slideLayout" Target="../slideLayouts/slideLayout31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AAF33C4-7AAA-4DE4-B699-2CF152BADCA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sldNum" idx="1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7BD0331-3101-48DE-A6FE-BF2CC96FFB0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23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sldNum" idx="1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74B2599-A1E2-4C45-9DD4-D2BC659F345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65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 type="sldNum" idx="1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09BF4F6-7795-416F-B90E-67AA9756106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07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sldNum" idx="1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B3E4731-3765-4E6C-96C4-ED7A955B396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49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0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 type="sldNum" idx="1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B7CD760-892C-472E-A0BB-673CEC45BDF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92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3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 type="sldNum" idx="1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AAD1014-9D3D-4578-8CD4-5697161E018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35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6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 type="sldNum" idx="1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46CB437-F5E6-44FD-92BF-AAAD85DC28E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5"/>
    <p:sldLayoutId id="2147483845" r:id="rId6"/>
    <p:sldLayoutId id="2147483846" r:id="rId7"/>
    <p:sldLayoutId id="2147483847" r:id="rId8"/>
    <p:sldLayoutId id="2147483848" r:id="rId9"/>
    <p:sldLayoutId id="2147483849" r:id="rId10"/>
    <p:sldLayoutId id="2147483850" r:id="rId11"/>
    <p:sldLayoutId id="2147483851" r:id="rId12"/>
    <p:sldLayoutId id="2147483852" r:id="rId13"/>
    <p:sldLayoutId id="2147483853" r:id="rId14"/>
    <p:sldLayoutId id="2147483854" r:id="rId15"/>
    <p:sldLayoutId id="2147483855" r:id="rId16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7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78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9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sldNum" idx="1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89528E1-B38A-48D5-9F76-45D9C5ADFA1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5"/>
    <p:sldLayoutId id="2147483858" r:id="rId6"/>
    <p:sldLayoutId id="2147483859" r:id="rId7"/>
    <p:sldLayoutId id="2147483860" r:id="rId8"/>
    <p:sldLayoutId id="2147483861" r:id="rId9"/>
    <p:sldLayoutId id="2147483862" r:id="rId10"/>
    <p:sldLayoutId id="2147483863" r:id="rId11"/>
    <p:sldLayoutId id="2147483864" r:id="rId12"/>
    <p:sldLayoutId id="2147483865" r:id="rId13"/>
    <p:sldLayoutId id="2147483866" r:id="rId14"/>
    <p:sldLayoutId id="2147483867" r:id="rId15"/>
    <p:sldLayoutId id="2147483868" r:id="rId16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2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21" name="Rectangle 6"/>
          <p:cNvSpPr/>
          <p:nvPr/>
        </p:nvSpPr>
        <p:spPr>
          <a:xfrm>
            <a:off x="249120" y="269568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2" name="Rectangle 9"/>
          <p:cNvSpPr/>
          <p:nvPr/>
        </p:nvSpPr>
        <p:spPr>
          <a:xfrm>
            <a:off x="247680" y="895320"/>
            <a:ext cx="864072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 type="sldNum" idx="1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F4ACD1B-CABF-4FEB-8480-9BF222B7440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5"/>
    <p:sldLayoutId id="2147483871" r:id="rId6"/>
    <p:sldLayoutId id="2147483872" r:id="rId7"/>
    <p:sldLayoutId id="2147483873" r:id="rId8"/>
    <p:sldLayoutId id="2147483874" r:id="rId9"/>
    <p:sldLayoutId id="2147483875" r:id="rId10"/>
    <p:sldLayoutId id="2147483876" r:id="rId11"/>
    <p:sldLayoutId id="2147483877" r:id="rId12"/>
    <p:sldLayoutId id="2147483878" r:id="rId13"/>
    <p:sldLayoutId id="2147483879" r:id="rId14"/>
    <p:sldLayoutId id="2147483880" r:id="rId15"/>
    <p:sldLayoutId id="2147483881" r:id="rId16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6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6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 type="sldNum" idx="1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07EC298-6FDB-449B-BF7E-C4AC6851462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5"/>
    <p:sldLayoutId id="2147483884" r:id="rId6"/>
    <p:sldLayoutId id="2147483885" r:id="rId7"/>
    <p:sldLayoutId id="2147483886" r:id="rId8"/>
    <p:sldLayoutId id="2147483887" r:id="rId9"/>
    <p:sldLayoutId id="2147483888" r:id="rId10"/>
    <p:sldLayoutId id="2147483889" r:id="rId11"/>
    <p:sldLayoutId id="2147483890" r:id="rId12"/>
    <p:sldLayoutId id="2147483891" r:id="rId13"/>
    <p:sldLayoutId id="2147483892" r:id="rId14"/>
    <p:sldLayoutId id="2147483893" r:id="rId15"/>
    <p:sldLayoutId id="2147483894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4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3"/>
          <p:cNvSpPr>
            <a:spLocks noGrp="1"/>
          </p:cNvSpPr>
          <p:nvPr>
            <p:ph type="sldNum" idx="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B293AF3-C3B4-4F89-AEC0-B513EC24FFE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09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0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1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2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 type="sldNum" idx="2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0272CB7-4931-4154-A79F-F38870BF04C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5"/>
    <p:sldLayoutId id="2147483897" r:id="rId6"/>
    <p:sldLayoutId id="2147483898" r:id="rId7"/>
    <p:sldLayoutId id="2147483899" r:id="rId8"/>
    <p:sldLayoutId id="2147483900" r:id="rId9"/>
    <p:sldLayoutId id="2147483901" r:id="rId10"/>
    <p:sldLayoutId id="2147483902" r:id="rId11"/>
    <p:sldLayoutId id="2147483903" r:id="rId12"/>
    <p:sldLayoutId id="2147483904" r:id="rId13"/>
    <p:sldLayoutId id="2147483905" r:id="rId14"/>
    <p:sldLayoutId id="2147483906" r:id="rId15"/>
    <p:sldLayoutId id="2147483907" r:id="rId16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5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5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 type="sldNum" idx="2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091BD46-865C-4EF2-A63C-A06C6219816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5"/>
    <p:sldLayoutId id="2147483910" r:id="rId6"/>
    <p:sldLayoutId id="2147483911" r:id="rId7"/>
    <p:sldLayoutId id="2147483912" r:id="rId8"/>
    <p:sldLayoutId id="2147483913" r:id="rId9"/>
    <p:sldLayoutId id="2147483914" r:id="rId10"/>
    <p:sldLayoutId id="2147483915" r:id="rId11"/>
    <p:sldLayoutId id="2147483916" r:id="rId12"/>
    <p:sldLayoutId id="2147483917" r:id="rId13"/>
    <p:sldLayoutId id="2147483918" r:id="rId14"/>
    <p:sldLayoutId id="2147483919" r:id="rId15"/>
    <p:sldLayoutId id="2147483920" r:id="rId16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9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 type="sldNum" idx="2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959E716-8C4E-4C16-882B-2A1E402DC33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5"/>
    <p:sldLayoutId id="2147483923" r:id="rId6"/>
    <p:sldLayoutId id="2147483924" r:id="rId7"/>
    <p:sldLayoutId id="2147483925" r:id="rId8"/>
    <p:sldLayoutId id="2147483926" r:id="rId9"/>
    <p:sldLayoutId id="2147483927" r:id="rId10"/>
    <p:sldLayoutId id="2147483928" r:id="rId11"/>
    <p:sldLayoutId id="2147483929" r:id="rId12"/>
    <p:sldLayoutId id="2147483930" r:id="rId13"/>
    <p:sldLayoutId id="2147483931" r:id="rId14"/>
    <p:sldLayoutId id="2147483932" r:id="rId15"/>
    <p:sldLayoutId id="2147483933" r:id="rId16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8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 type="sldNum" idx="2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73827C3-3577-411D-8FF6-8670DF60DA9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5"/>
    <p:sldLayoutId id="2147483936" r:id="rId6"/>
    <p:sldLayoutId id="2147483937" r:id="rId7"/>
    <p:sldLayoutId id="2147483938" r:id="rId8"/>
    <p:sldLayoutId id="2147483939" r:id="rId9"/>
    <p:sldLayoutId id="2147483940" r:id="rId10"/>
    <p:sldLayoutId id="2147483941" r:id="rId11"/>
    <p:sldLayoutId id="2147483942" r:id="rId12"/>
    <p:sldLayoutId id="2147483943" r:id="rId13"/>
    <p:sldLayoutId id="2147483944" r:id="rId14"/>
    <p:sldLayoutId id="2147483945" r:id="rId15"/>
    <p:sldLayoutId id="2147483946" r:id="rId16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80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 type="sldNum" idx="2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1CA7272-645B-4EA0-8660-A0149055B8D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5"/>
    <p:sldLayoutId id="2147483949" r:id="rId6"/>
    <p:sldLayoutId id="2147483950" r:id="rId7"/>
    <p:sldLayoutId id="2147483951" r:id="rId8"/>
    <p:sldLayoutId id="2147483952" r:id="rId9"/>
    <p:sldLayoutId id="2147483953" r:id="rId10"/>
    <p:sldLayoutId id="2147483954" r:id="rId11"/>
    <p:sldLayoutId id="2147483955" r:id="rId12"/>
    <p:sldLayoutId id="2147483956" r:id="rId13"/>
    <p:sldLayoutId id="2147483957" r:id="rId14"/>
    <p:sldLayoutId id="2147483958" r:id="rId15"/>
    <p:sldLayoutId id="2147483959" r:id="rId16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22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23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4" name="Rectangle 8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 type="sldNum" idx="2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7FEE3C0-283A-4F1D-8E0B-F440F912EF5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5"/>
    <p:sldLayoutId id="2147483962" r:id="rId6"/>
    <p:sldLayoutId id="2147483963" r:id="rId7"/>
    <p:sldLayoutId id="2147483964" r:id="rId8"/>
    <p:sldLayoutId id="2147483965" r:id="rId9"/>
    <p:sldLayoutId id="2147483966" r:id="rId10"/>
    <p:sldLayoutId id="2147483967" r:id="rId11"/>
    <p:sldLayoutId id="2147483968" r:id="rId12"/>
    <p:sldLayoutId id="2147483969" r:id="rId13"/>
    <p:sldLayoutId id="2147483970" r:id="rId14"/>
    <p:sldLayoutId id="2147483971" r:id="rId15"/>
    <p:sldLayoutId id="2147483972" r:id="rId16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66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 type="sldNum" idx="2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96BF7AB-1968-4D47-933C-8588DE99D95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5"/>
    <p:sldLayoutId id="2147483975" r:id="rId6"/>
    <p:sldLayoutId id="2147483976" r:id="rId7"/>
    <p:sldLayoutId id="2147483977" r:id="rId8"/>
    <p:sldLayoutId id="2147483978" r:id="rId9"/>
    <p:sldLayoutId id="2147483979" r:id="rId10"/>
    <p:sldLayoutId id="2147483980" r:id="rId11"/>
    <p:sldLayoutId id="2147483981" r:id="rId12"/>
    <p:sldLayoutId id="2147483982" r:id="rId13"/>
    <p:sldLayoutId id="2147483983" r:id="rId14"/>
    <p:sldLayoutId id="2147483984" r:id="rId15"/>
    <p:sldLayoutId id="2147483985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A4B36EC-FA46-4761-AF92-A87DE28C91F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F4ED264-4C82-4687-A3BD-C329E8733CC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7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Num" idx="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03093E6-1FEE-466F-A3FA-9153B307391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0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Num" idx="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8AFE88B-F030-4ABF-ABD1-39CF698702B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52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3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1ECE15C-46B5-41B0-A1D3-82A0E1BDD8B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95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6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sldNum" idx="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FA71920-09BE-41CA-A726-A00722B7BC3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38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9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sldNum" idx="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AF13D28-326A-440A-B3B1-4AD3EEF28E9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2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27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image" Target="../media/image31.png"/><Relationship Id="rId8" Type="http://schemas.openxmlformats.org/officeDocument/2006/relationships/image" Target="../media/image31.png"/><Relationship Id="rId9" Type="http://schemas.openxmlformats.org/officeDocument/2006/relationships/image" Target="../media/image33.png"/><Relationship Id="rId10" Type="http://schemas.openxmlformats.org/officeDocument/2006/relationships/image" Target="../media/image34.png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9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277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0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image" Target="../media/image55.pn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60.png"/><Relationship Id="rId3" Type="http://schemas.openxmlformats.org/officeDocument/2006/relationships/image" Target="../media/image61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image" Target="../media/image57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3.png"/><Relationship Id="rId3" Type="http://schemas.openxmlformats.org/officeDocument/2006/relationships/slideLayout" Target="../slideLayouts/slideLayout25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2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2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3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328760"/>
          </a:xfrm>
          <a:prstGeom prst="rect">
            <a:avLst/>
          </a:prstGeom>
          <a:ln w="0">
            <a:noFill/>
          </a:ln>
        </p:spPr>
      </p:pic>
      <p:sp>
        <p:nvSpPr>
          <p:cNvPr id="111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E975DD5-470B-4A99-B488-F7CA42F60FB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5" name="PlaceHolder 1"/>
          <p:cNvSpPr>
            <a:spLocks noGrp="1"/>
          </p:cNvSpPr>
          <p:nvPr>
            <p:ph/>
          </p:nvPr>
        </p:nvSpPr>
        <p:spPr>
          <a:xfrm>
            <a:off x="429840" y="1450440"/>
            <a:ext cx="8386920" cy="40356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Brian 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29840" y="1800000"/>
            <a:ext cx="8386920" cy="4093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Alfresco Product Architec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29840" y="2263680"/>
            <a:ext cx="8386920" cy="457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 fontScale="75000"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8A474FA-409B-41D7-9A4C-FF77C863E8E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corresponding data list for feedback (auto-created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New entries are periodically processed – each type of feedback can have its own handler defin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mmen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mmen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ntac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ntact Reques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1" name="TextBox 6"/>
          <p:cNvSpPr/>
          <p:nvPr/>
        </p:nvSpPr>
        <p:spPr>
          <a:xfrm>
            <a:off x="249120" y="5113440"/>
            <a:ext cx="863928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8585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bean id=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"commentFeedbackProcessorHandler" 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parent="feedbackProcessorHandler"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       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class="org.alfresco.module.org_alfresco_module_wcmquickstart.jobs.feedback.CommentFeedbackProcessorHandler"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ff0000"/>
                </a:solidFill>
                <a:latin typeface="Arial"/>
              </a:rPr>
              <a:t>&lt;property name=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"feedbackType" value="Comment"  /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/bean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2" name="Picture 2" descr="C:\Users\Brian\Documents\alfresco\cheetah\wcmqs-devguide\feedback-processor.png"/>
          <p:cNvPicPr/>
          <p:nvPr/>
        </p:nvPicPr>
        <p:blipFill>
          <a:blip r:embed="rId2"/>
          <a:stretch/>
        </p:blipFill>
        <p:spPr>
          <a:xfrm>
            <a:off x="4730760" y="1189080"/>
            <a:ext cx="404028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38CD1E5-1D02-4064-9239-5261C8559A0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5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publishing queu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WQS has a PublishService that processes the queue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actions defined: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Tree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and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”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workflows defined that use the action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Queues are published periodically – every minute by default (override with property </a:t>
            </a:r>
            <a:r>
              <a:rPr b="0" lang="en-GB" sz="1600" spc="-1" strike="noStrike">
                <a:solidFill>
                  <a:srgbClr val="333333"/>
                </a:solidFill>
                <a:latin typeface="Arial"/>
              </a:rPr>
              <a:t>wcmqs.publishQueueProcessor.schedule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node may specify another website node that it publishes to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6" name="Straight Connector 5"/>
          <p:cNvSpPr/>
          <p:nvPr/>
        </p:nvSpPr>
        <p:spPr>
          <a:xfrm>
            <a:off x="8888400" y="2814480"/>
            <a:ext cx="0" cy="3121200"/>
          </a:xfrm>
          <a:prstGeom prst="line">
            <a:avLst/>
          </a:prstGeom>
          <a:ln w="1260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7" name="Picture 3" descr=""/>
          <p:cNvPicPr/>
          <p:nvPr/>
        </p:nvPicPr>
        <p:blipFill>
          <a:blip r:embed="rId2"/>
          <a:stretch/>
        </p:blipFill>
        <p:spPr>
          <a:xfrm>
            <a:off x="3021120" y="4497480"/>
            <a:ext cx="1409760" cy="7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8" name="Title 6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C1B6CC7-34BF-4FCE-B960-D95E7B1258D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0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Override map of available ACP files using a bean named 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i="1" lang="en-GB" sz="1600" spc="-1" strike="noStrike">
                <a:solidFill>
                  <a:srgbClr val="333333"/>
                </a:solidFill>
                <a:latin typeface="Courier New"/>
              </a:rPr>
              <a:t>wqsmodule_siteImportFileLocations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171" name="Picture 2" descr=""/>
          <p:cNvPicPr/>
          <p:nvPr/>
        </p:nvPicPr>
        <p:blipFill>
          <a:blip r:embed="rId2"/>
          <a:stretch/>
        </p:blipFill>
        <p:spPr>
          <a:xfrm>
            <a:off x="339840" y="3105000"/>
            <a:ext cx="6056280" cy="14018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2" name="Picture 3" descr=""/>
          <p:cNvPicPr/>
          <p:nvPr/>
        </p:nvPicPr>
        <p:blipFill>
          <a:blip r:embed="rId3"/>
          <a:stretch/>
        </p:blipFill>
        <p:spPr>
          <a:xfrm>
            <a:off x="4016520" y="1906560"/>
            <a:ext cx="4695840" cy="885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3" name="Picture 4" descr=""/>
          <p:cNvPicPr/>
          <p:nvPr/>
        </p:nvPicPr>
        <p:blipFill>
          <a:blip r:embed="rId4"/>
          <a:stretch/>
        </p:blipFill>
        <p:spPr>
          <a:xfrm>
            <a:off x="771480" y="4935600"/>
            <a:ext cx="7581960" cy="604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3F45B90-14E8-490D-A152-9B478994BBC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176" name="Group 1039"/>
          <p:cNvGrpSpPr/>
          <p:nvPr/>
        </p:nvGrpSpPr>
        <p:grpSpPr>
          <a:xfrm>
            <a:off x="3328920" y="1265400"/>
            <a:ext cx="1851120" cy="3873240"/>
            <a:chOff x="3328920" y="1265400"/>
            <a:chExt cx="1851120" cy="3873240"/>
          </a:xfrm>
        </p:grpSpPr>
        <p:grpSp>
          <p:nvGrpSpPr>
            <p:cNvPr id="1177" name="Rounded Rectangle 20"/>
            <p:cNvGrpSpPr/>
            <p:nvPr/>
          </p:nvGrpSpPr>
          <p:grpSpPr>
            <a:xfrm>
              <a:off x="3328920" y="2755800"/>
              <a:ext cx="1851120" cy="737280"/>
              <a:chOff x="3328920" y="2755800"/>
              <a:chExt cx="1851120" cy="737280"/>
            </a:xfrm>
          </p:grpSpPr>
          <p:pic>
            <p:nvPicPr>
              <p:cNvPr id="1178" name="Rounded Rectangle 20" descr=""/>
              <p:cNvPicPr/>
              <p:nvPr/>
            </p:nvPicPr>
            <p:blipFill>
              <a:blip r:embed="rId2"/>
              <a:stretch/>
            </p:blipFill>
            <p:spPr>
              <a:xfrm>
                <a:off x="3328920" y="275580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9" name=""/>
              <p:cNvSpPr/>
              <p:nvPr/>
            </p:nvSpPr>
            <p:spPr>
              <a:xfrm>
                <a:off x="3438000" y="28839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GB" sz="1600" spc="-1" strike="noStrike">
                    <a:solidFill>
                      <a:srgbClr val="4a452a"/>
                    </a:solidFill>
                    <a:latin typeface="Arial"/>
                    <a:ea typeface="ヒラギノ角ゴ ProN W3"/>
                  </a:rPr>
                  <a:t>WQS API</a:t>
                </a:r>
                <a:endParaRPr b="0" lang="en-US" sz="1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80" name="Group 1023"/>
            <p:cNvGrpSpPr/>
            <p:nvPr/>
          </p:nvGrpSpPr>
          <p:grpSpPr>
            <a:xfrm>
              <a:off x="3406320" y="4329720"/>
              <a:ext cx="1541880" cy="808920"/>
              <a:chOff x="3406320" y="4329720"/>
              <a:chExt cx="1541880" cy="808920"/>
            </a:xfrm>
          </p:grpSpPr>
          <p:grpSp>
            <p:nvGrpSpPr>
              <p:cNvPr id="1181" name="Rounded Rectangle 25"/>
              <p:cNvGrpSpPr/>
              <p:nvPr/>
            </p:nvGrpSpPr>
            <p:grpSpPr>
              <a:xfrm>
                <a:off x="3406320" y="4329720"/>
                <a:ext cx="1541880" cy="808920"/>
                <a:chOff x="3406320" y="4329720"/>
                <a:chExt cx="1541880" cy="808920"/>
              </a:xfrm>
            </p:grpSpPr>
            <p:pic>
              <p:nvPicPr>
                <p:cNvPr id="1182" name="Rounded Rectangle 2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406320" y="4329720"/>
                  <a:ext cx="1541880" cy="808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3" name=""/>
                <p:cNvSpPr/>
                <p:nvPr/>
              </p:nvSpPr>
              <p:spPr>
                <a:xfrm>
                  <a:off x="3511440" y="4434840"/>
                  <a:ext cx="122904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4" name="Picture 5" descr="C:\Users\Brian\Documents\alfresco\devcon2010\alfresco-logo.gif"/>
              <p:cNvPicPr/>
              <p:nvPr/>
            </p:nvPicPr>
            <p:blipFill>
              <a:blip r:embed="rId4"/>
              <a:stretch/>
            </p:blipFill>
            <p:spPr>
              <a:xfrm>
                <a:off x="3544920" y="4523760"/>
                <a:ext cx="1161360" cy="3326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85" name="Group 1033"/>
            <p:cNvGrpSpPr/>
            <p:nvPr/>
          </p:nvGrpSpPr>
          <p:grpSpPr>
            <a:xfrm>
              <a:off x="3421800" y="2336760"/>
              <a:ext cx="1541880" cy="395640"/>
              <a:chOff x="3421800" y="2336760"/>
              <a:chExt cx="1541880" cy="395640"/>
            </a:xfrm>
          </p:grpSpPr>
          <p:grpSp>
            <p:nvGrpSpPr>
              <p:cNvPr id="1186" name="Rounded Rectangle 6"/>
              <p:cNvGrpSpPr/>
              <p:nvPr/>
            </p:nvGrpSpPr>
            <p:grpSpPr>
              <a:xfrm>
                <a:off x="3421800" y="2336760"/>
                <a:ext cx="1541880" cy="395640"/>
                <a:chOff x="3421800" y="2336760"/>
                <a:chExt cx="1541880" cy="395640"/>
              </a:xfrm>
            </p:grpSpPr>
            <p:pic>
              <p:nvPicPr>
                <p:cNvPr id="1187" name="Rounded Rectangle 6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3421800" y="233676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8" name=""/>
                <p:cNvSpPr/>
                <p:nvPr/>
              </p:nvSpPr>
              <p:spPr>
                <a:xfrm>
                  <a:off x="3512520" y="240660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9" name="Picture 6" descr="C:\Users\Brian\Documents\alfresco\devcon2010\springsource-logo.gif"/>
              <p:cNvPicPr/>
              <p:nvPr/>
            </p:nvPicPr>
            <p:blipFill>
              <a:blip r:embed="rId6"/>
              <a:stretch/>
            </p:blipFill>
            <p:spPr>
              <a:xfrm>
                <a:off x="3510000" y="2423520"/>
                <a:ext cx="1236960" cy="149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90" name="Rounded Rectangle 10"/>
            <p:cNvGrpSpPr/>
            <p:nvPr/>
          </p:nvGrpSpPr>
          <p:grpSpPr>
            <a:xfrm>
              <a:off x="3328920" y="1701360"/>
              <a:ext cx="1851120" cy="737280"/>
              <a:chOff x="3328920" y="1701360"/>
              <a:chExt cx="1851120" cy="737280"/>
            </a:xfrm>
          </p:grpSpPr>
          <p:pic>
            <p:nvPicPr>
              <p:cNvPr id="1191" name="Rounded Rectangle 10" descr=""/>
              <p:cNvPicPr/>
              <p:nvPr/>
            </p:nvPicPr>
            <p:blipFill>
              <a:blip r:embed="rId7"/>
              <a:stretch/>
            </p:blipFill>
            <p:spPr>
              <a:xfrm>
                <a:off x="3328920" y="170136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2" name=""/>
              <p:cNvSpPr/>
              <p:nvPr/>
            </p:nvSpPr>
            <p:spPr>
              <a:xfrm>
                <a:off x="3438000" y="18327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93" name="Group 1024"/>
            <p:cNvGrpSpPr/>
            <p:nvPr/>
          </p:nvGrpSpPr>
          <p:grpSpPr>
            <a:xfrm>
              <a:off x="3421800" y="1265400"/>
              <a:ext cx="1541880" cy="395640"/>
              <a:chOff x="3421800" y="1265400"/>
              <a:chExt cx="1541880" cy="395640"/>
            </a:xfrm>
          </p:grpSpPr>
          <p:grpSp>
            <p:nvGrpSpPr>
              <p:cNvPr id="1194" name="Rounded Rectangle 14"/>
              <p:cNvGrpSpPr/>
              <p:nvPr/>
            </p:nvGrpSpPr>
            <p:grpSpPr>
              <a:xfrm>
                <a:off x="3421800" y="1265400"/>
                <a:ext cx="1541880" cy="395640"/>
                <a:chOff x="3421800" y="1265400"/>
                <a:chExt cx="1541880" cy="395640"/>
              </a:xfrm>
            </p:grpSpPr>
            <p:pic>
              <p:nvPicPr>
                <p:cNvPr id="1195" name="Rounded Rectangle 1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3421800" y="126540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6" name=""/>
                <p:cNvSpPr/>
                <p:nvPr/>
              </p:nvSpPr>
              <p:spPr>
                <a:xfrm>
                  <a:off x="3512520" y="133596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97" name="Picture 8" descr="C:\Users\Brian\Documents\alfresco\devcon2010\freemarker-logo.gif"/>
              <p:cNvPicPr/>
              <p:nvPr/>
            </p:nvPicPr>
            <p:blipFill>
              <a:blip r:embed="rId9"/>
              <a:stretch/>
            </p:blipFill>
            <p:spPr>
              <a:xfrm>
                <a:off x="3695040" y="1383480"/>
                <a:ext cx="866880" cy="964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98" name="Down Arrow 30"/>
            <p:cNvSpPr/>
            <p:nvPr/>
          </p:nvSpPr>
          <p:spPr>
            <a:xfrm>
              <a:off x="3971880" y="3534840"/>
              <a:ext cx="441360" cy="631800"/>
            </a:xfrm>
            <a:prstGeom prst="downArrow">
              <a:avLst>
                <a:gd name="adj1" fmla="val 50000"/>
                <a:gd name="adj2" fmla="val 59420"/>
              </a:avLst>
            </a:prstGeom>
            <a:gradFill rotWithShape="0">
              <a:gsLst>
                <a:gs pos="0">
                  <a:srgbClr val="0085e0"/>
                </a:gs>
                <a:gs pos="100000">
                  <a:srgbClr val="89c2ff"/>
                </a:gs>
              </a:gsLst>
              <a:lin ang="16200000"/>
            </a:gradFill>
            <a:ln w="9360">
              <a:solidFill>
                <a:srgbClr val="007bc3"/>
              </a:solidFill>
              <a:miter/>
            </a:ln>
            <a:effectLst>
              <a:outerShdw dist="63639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1199" name="Picture 9" descr="C:\Users\Brian\Documents\alfresco\devcon2010\surf-logo.gif"/>
            <p:cNvPicPr/>
            <p:nvPr/>
          </p:nvPicPr>
          <p:blipFill>
            <a:blip r:embed="rId10"/>
            <a:stretch/>
          </p:blipFill>
          <p:spPr>
            <a:xfrm>
              <a:off x="3842280" y="1848600"/>
              <a:ext cx="669600" cy="323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0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F1A7488-943F-45AF-B860-BE70F081BAD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Bean “webSiteService” is a good starting point: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grpSp>
        <p:nvGrpSpPr>
          <p:cNvPr id="1203" name="Group 17"/>
          <p:cNvGrpSpPr/>
          <p:nvPr/>
        </p:nvGrpSpPr>
        <p:grpSpPr>
          <a:xfrm>
            <a:off x="5148360" y="1003320"/>
            <a:ext cx="3678120" cy="2128680"/>
            <a:chOff x="5148360" y="1003320"/>
            <a:chExt cx="3678120" cy="2128680"/>
          </a:xfrm>
        </p:grpSpPr>
        <p:pic>
          <p:nvPicPr>
            <p:cNvPr id="1204" name="Picture 5" descr="C:\Users\Brian\Documents\alfresco\cheetah\wcmqs-devguide\wcmqs-basic-model-cropped.png"/>
            <p:cNvPicPr/>
            <p:nvPr/>
          </p:nvPicPr>
          <p:blipFill>
            <a:blip r:embed="rId2"/>
            <a:stretch/>
          </p:blipFill>
          <p:spPr>
            <a:xfrm>
              <a:off x="5148360" y="1003320"/>
              <a:ext cx="3678120" cy="212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5" name="Rectangle 12"/>
            <p:cNvSpPr/>
            <p:nvPr/>
          </p:nvSpPr>
          <p:spPr>
            <a:xfrm>
              <a:off x="563292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6" name="Rectangle 15"/>
            <p:cNvSpPr/>
            <p:nvPr/>
          </p:nvSpPr>
          <p:spPr>
            <a:xfrm>
              <a:off x="725868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7" name="Rectangle 16"/>
            <p:cNvSpPr/>
            <p:nvPr/>
          </p:nvSpPr>
          <p:spPr>
            <a:xfrm>
              <a:off x="6584040" y="2335320"/>
              <a:ext cx="509400" cy="16812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pic>
        <p:nvPicPr>
          <p:cNvPr id="1208" name="Picture 2" descr=""/>
          <p:cNvPicPr/>
          <p:nvPr/>
        </p:nvPicPr>
        <p:blipFill>
          <a:blip r:embed="rId3"/>
          <a:stretch/>
        </p:blipFill>
        <p:spPr>
          <a:xfrm>
            <a:off x="247680" y="3294000"/>
            <a:ext cx="8648640" cy="2641680"/>
          </a:xfrm>
          <a:prstGeom prst="rect">
            <a:avLst/>
          </a:prstGeom>
          <a:ln w="9360">
            <a:solidFill>
              <a:srgbClr val="adada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9" name="Title 1" descr=""/>
          <p:cNvPicPr/>
          <p:nvPr/>
        </p:nvPicPr>
        <p:blipFill>
          <a:blip r:embed="rId1"/>
          <a:stretch/>
        </p:blipFill>
        <p:spPr>
          <a:xfrm>
            <a:off x="0" y="23760"/>
            <a:ext cx="8888400" cy="860400"/>
          </a:xfrm>
          <a:prstGeom prst="rect">
            <a:avLst/>
          </a:prstGeom>
          <a:ln w="0">
            <a:noFill/>
          </a:ln>
        </p:spPr>
      </p:pic>
      <p:sp>
        <p:nvSpPr>
          <p:cNvPr id="121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AD75C33-E23D-492E-BFFF-510FA518878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1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2" name="Rectangle 4"/>
          <p:cNvSpPr/>
          <p:nvPr/>
        </p:nvSpPr>
        <p:spPr>
          <a:xfrm>
            <a:off x="4381560" y="3979800"/>
            <a:ext cx="388800" cy="19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13" name="Picture 3" descr=""/>
          <p:cNvPicPr/>
          <p:nvPr/>
        </p:nvPicPr>
        <p:blipFill>
          <a:blip r:embed="rId2"/>
          <a:stretch/>
        </p:blipFill>
        <p:spPr>
          <a:xfrm>
            <a:off x="272880" y="923760"/>
            <a:ext cx="8493120" cy="3681720"/>
          </a:xfrm>
          <a:prstGeom prst="rect">
            <a:avLst/>
          </a:prstGeom>
          <a:ln w="0">
            <a:noFill/>
          </a:ln>
        </p:spPr>
      </p:pic>
      <p:pic>
        <p:nvPicPr>
          <p:cNvPr id="1214" name="Group 3" descr=""/>
          <p:cNvPicPr/>
          <p:nvPr/>
        </p:nvPicPr>
        <p:blipFill>
          <a:blip r:embed="rId3"/>
          <a:stretch/>
        </p:blipFill>
        <p:spPr>
          <a:xfrm>
            <a:off x="2382840" y="4224240"/>
            <a:ext cx="419400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1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F27B08C-D6B7-461B-BECC-FF8799201E8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7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Friendly” URLs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quested URL is parsed to find the website, section, and asset that are being address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ww.example.com/news/global/financial_outlook_goo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solved API objects are stored on the request context with the names “website”, “section”, and “asset” for use by page components.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8" name="Straight Connector 10"/>
          <p:cNvSpPr/>
          <p:nvPr/>
        </p:nvSpPr>
        <p:spPr>
          <a:xfrm>
            <a:off x="977760" y="3179880"/>
            <a:ext cx="2497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9" name="Straight Connector 12"/>
          <p:cNvSpPr/>
          <p:nvPr/>
        </p:nvSpPr>
        <p:spPr>
          <a:xfrm>
            <a:off x="3475080" y="3602160"/>
            <a:ext cx="178920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0" name="Straight Connector 15"/>
          <p:cNvSpPr/>
          <p:nvPr/>
        </p:nvSpPr>
        <p:spPr>
          <a:xfrm>
            <a:off x="5264280" y="3179880"/>
            <a:ext cx="3100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1" name="Straight Connector 17"/>
          <p:cNvSpPr/>
          <p:nvPr/>
        </p:nvSpPr>
        <p:spPr>
          <a:xfrm>
            <a:off x="22255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2" name="Straight Connector 19"/>
          <p:cNvSpPr/>
          <p:nvPr/>
        </p:nvSpPr>
        <p:spPr>
          <a:xfrm>
            <a:off x="68137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3" name="Straight Connector 21"/>
          <p:cNvSpPr/>
          <p:nvPr/>
        </p:nvSpPr>
        <p:spPr>
          <a:xfrm>
            <a:off x="4368960" y="3602160"/>
            <a:ext cx="0" cy="17460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4" name="TextBox 25"/>
          <p:cNvSpPr/>
          <p:nvPr/>
        </p:nvSpPr>
        <p:spPr>
          <a:xfrm>
            <a:off x="1786320" y="2735280"/>
            <a:ext cx="86940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websit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5" name="TextBox 26"/>
          <p:cNvSpPr/>
          <p:nvPr/>
        </p:nvSpPr>
        <p:spPr>
          <a:xfrm>
            <a:off x="3934440" y="3730680"/>
            <a:ext cx="82548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sectio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6" name="TextBox 27"/>
          <p:cNvSpPr/>
          <p:nvPr/>
        </p:nvSpPr>
        <p:spPr>
          <a:xfrm>
            <a:off x="6465240" y="2743200"/>
            <a:ext cx="66672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333333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asset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2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06F0940-37E7-4200-9B89-E9B773A4409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ired in to respond whenever an asset has been resolv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Discovers the page name to be used to render the asse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Each section may define template mappings from asset type to view name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Searches up the type hierarchy first, then the section hierarchy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3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231" name="Picture 3" descr=""/>
          <p:cNvPicPr/>
          <p:nvPr/>
        </p:nvPicPr>
        <p:blipFill>
          <a:blip r:embed="rId2"/>
          <a:stretch/>
        </p:blipFill>
        <p:spPr>
          <a:xfrm>
            <a:off x="4695840" y="1301760"/>
            <a:ext cx="4132080" cy="3780000"/>
          </a:xfrm>
          <a:prstGeom prst="rect">
            <a:avLst/>
          </a:prstGeom>
          <a:ln w="0">
            <a:noFill/>
          </a:ln>
        </p:spPr>
      </p:pic>
      <p:sp>
        <p:nvSpPr>
          <p:cNvPr id="1232" name="Rectangle 6"/>
          <p:cNvSpPr/>
          <p:nvPr/>
        </p:nvSpPr>
        <p:spPr>
          <a:xfrm>
            <a:off x="4786200" y="3379680"/>
            <a:ext cx="3197160" cy="658800"/>
          </a:xfrm>
          <a:prstGeom prst="rect">
            <a:avLst/>
          </a:prstGeom>
          <a:noFill/>
          <a:ln w="15840">
            <a:solidFill>
              <a:srgbClr val="38ff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3" name="Picture 4" descr=""/>
          <p:cNvPicPr/>
          <p:nvPr/>
        </p:nvPicPr>
        <p:blipFill>
          <a:blip r:embed="rId3"/>
          <a:stretch/>
        </p:blipFill>
        <p:spPr>
          <a:xfrm>
            <a:off x="4813200" y="3409920"/>
            <a:ext cx="3106800" cy="5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234B0ED-D031-4219-BE7C-0FD32455EE0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6" name="Picture 5" descr="C:\Users\Brian\Documents\alfresco\cheetah\wcmqs-devguide\wqs-webapp-sequence1.png"/>
          <p:cNvPicPr/>
          <p:nvPr/>
        </p:nvPicPr>
        <p:blipFill>
          <a:blip r:embed="rId2"/>
          <a:stretch/>
        </p:blipFill>
        <p:spPr>
          <a:xfrm>
            <a:off x="0" y="954000"/>
            <a:ext cx="9144000" cy="48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36CA02C-16F8-4708-987A-43200386182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9" name="Picture 5" descr=""/>
          <p:cNvPicPr/>
          <p:nvPr/>
        </p:nvPicPr>
        <p:blipFill>
          <a:blip r:embed="rId2"/>
          <a:stretch/>
        </p:blipFill>
        <p:spPr>
          <a:xfrm>
            <a:off x="760320" y="1089000"/>
            <a:ext cx="1428840" cy="174312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1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F8D9BDB-9A48-4D10-A60A-FD4BBB82CF2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0" name="PlaceHolder 1"/>
          <p:cNvSpPr>
            <a:spLocks noGrp="1"/>
          </p:cNvSpPr>
          <p:nvPr>
            <p:ph/>
          </p:nvPr>
        </p:nvSpPr>
        <p:spPr>
          <a:xfrm>
            <a:off x="249120" y="1460160"/>
            <a:ext cx="8639280" cy="44751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A demonstr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e Web Quick Start mod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features in the repository ti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sample web applic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Primary goal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49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To show you how Web Quick Start works so you can start to use it and extend i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249120" y="894960"/>
            <a:ext cx="8639280" cy="53820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7dc3"/>
                </a:solidFill>
                <a:latin typeface="Arial"/>
              </a:rPr>
              <a:t>What we’ll cov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AD78FBC-78E9-4272-8098-E58A5713D34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2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3" name="Picture 7" descr=""/>
          <p:cNvPicPr/>
          <p:nvPr/>
        </p:nvPicPr>
        <p:blipFill>
          <a:blip r:embed="rId3"/>
          <a:stretch/>
        </p:blipFill>
        <p:spPr>
          <a:xfrm>
            <a:off x="687240" y="955800"/>
            <a:ext cx="171468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44" name="TextBox 3"/>
          <p:cNvSpPr/>
          <p:nvPr/>
        </p:nvSpPr>
        <p:spPr>
          <a:xfrm>
            <a:off x="3131640" y="144792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ink of “templates” as layouts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with holes cut out (“regions”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EA0C4B8-3470-458E-B7FA-3FCBE2E590B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7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8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9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0" name="TextBox 3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1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5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607E942-0760-470A-9731-2FAFB9EA82E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53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4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5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6" name="Picture 9" descr=""/>
          <p:cNvPicPr/>
          <p:nvPr/>
        </p:nvPicPr>
        <p:blipFill>
          <a:blip r:embed="rId5"/>
          <a:stretch/>
        </p:blipFill>
        <p:spPr>
          <a:xfrm>
            <a:off x="833400" y="1816200"/>
            <a:ext cx="1914480" cy="1428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7" name="TextBox 3"/>
          <p:cNvSpPr/>
          <p:nvPr/>
        </p:nvSpPr>
        <p:spPr>
          <a:xfrm>
            <a:off x="2643840" y="3648240"/>
            <a:ext cx="305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or example, there are two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that ren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rticle details: “article/style1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nd “article/style2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8" name="TextBox 9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1F5DA6B-BD1D-4BDC-AB10-D099436D119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1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2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3" name="Picture 8" descr=""/>
          <p:cNvPicPr/>
          <p:nvPr/>
        </p:nvPicPr>
        <p:blipFill>
          <a:blip r:embed="rId4"/>
          <a:stretch/>
        </p:blipFill>
        <p:spPr>
          <a:xfrm>
            <a:off x="3892680" y="2481120"/>
            <a:ext cx="1638000" cy="38102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4" name="Picture 9" descr=""/>
          <p:cNvPicPr/>
          <p:nvPr/>
        </p:nvPicPr>
        <p:blipFill>
          <a:blip r:embed="rId5"/>
          <a:stretch/>
        </p:blipFill>
        <p:spPr>
          <a:xfrm>
            <a:off x="4092480" y="3341520"/>
            <a:ext cx="1914480" cy="14288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5" name="Picture 6" descr=""/>
          <p:cNvPicPr/>
          <p:nvPr/>
        </p:nvPicPr>
        <p:blipFill>
          <a:blip r:embed="rId6"/>
          <a:stretch/>
        </p:blipFill>
        <p:spPr>
          <a:xfrm>
            <a:off x="760320" y="1073160"/>
            <a:ext cx="1981440" cy="31431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66" name="TextBox 3"/>
          <p:cNvSpPr/>
          <p:nvPr/>
        </p:nvSpPr>
        <p:spPr>
          <a:xfrm>
            <a:off x="602280" y="4373640"/>
            <a:ext cx="2995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nally, pages weav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emplates and component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ogether: a page specifie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 template and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are to fill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regions in that templat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53401CC-B5E4-4FFA-8EB1-3E34042E882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9" name="Picture 2" descr=""/>
          <p:cNvPicPr/>
          <p:nvPr/>
        </p:nvPicPr>
        <p:blipFill>
          <a:blip r:embed="rId2"/>
          <a:stretch/>
        </p:blipFill>
        <p:spPr>
          <a:xfrm>
            <a:off x="1940040" y="762120"/>
            <a:ext cx="5010120" cy="54687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0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71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3EBAAB3-757D-439E-B662-14611F8F454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3" name="Rectangle 3"/>
          <p:cNvSpPr/>
          <p:nvPr/>
        </p:nvSpPr>
        <p:spPr>
          <a:xfrm>
            <a:off x="1860480" y="1208160"/>
            <a:ext cx="2886120" cy="1350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1F27857-3F60-450C-B14F-21FED46BBAB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76" name="Picture 4" descr=""/>
          <p:cNvPicPr/>
          <p:nvPr/>
        </p:nvPicPr>
        <p:blipFill>
          <a:blip r:embed="rId2"/>
          <a:stretch/>
        </p:blipFill>
        <p:spPr>
          <a:xfrm>
            <a:off x="1639800" y="779400"/>
            <a:ext cx="5291280" cy="58993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277" name="TextBox 6"/>
          <p:cNvSpPr/>
          <p:nvPr/>
        </p:nvSpPr>
        <p:spPr>
          <a:xfrm>
            <a:off x="130680" y="95724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ve-block.ftl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8" name="Rectangle 5"/>
          <p:cNvSpPr/>
          <p:nvPr/>
        </p:nvSpPr>
        <p:spPr>
          <a:xfrm>
            <a:off x="1860480" y="1444680"/>
            <a:ext cx="2425680" cy="2286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9" name="Rectangle 7"/>
          <p:cNvSpPr/>
          <p:nvPr/>
        </p:nvSpPr>
        <p:spPr>
          <a:xfrm>
            <a:off x="2013120" y="2085840"/>
            <a:ext cx="2116080" cy="6573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0" name="Rectangle 8"/>
          <p:cNvSpPr/>
          <p:nvPr/>
        </p:nvSpPr>
        <p:spPr>
          <a:xfrm>
            <a:off x="2471760" y="3200400"/>
            <a:ext cx="265284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1" name="Rectangle 9"/>
          <p:cNvSpPr/>
          <p:nvPr/>
        </p:nvSpPr>
        <p:spPr>
          <a:xfrm>
            <a:off x="2082960" y="5413320"/>
            <a:ext cx="2114280" cy="6429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2" name="Rectangle 10"/>
          <p:cNvSpPr/>
          <p:nvPr/>
        </p:nvSpPr>
        <p:spPr>
          <a:xfrm>
            <a:off x="2471760" y="4067280"/>
            <a:ext cx="277020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8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C101F63-752E-4995-B36A-8AC8604B735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85" name="Picture 2" descr=""/>
          <p:cNvPicPr/>
          <p:nvPr/>
        </p:nvPicPr>
        <p:blipFill>
          <a:blip r:embed="rId2"/>
          <a:stretch/>
        </p:blipFill>
        <p:spPr>
          <a:xfrm>
            <a:off x="1874880" y="781200"/>
            <a:ext cx="5010120" cy="54702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286" name="Rectangle 4"/>
          <p:cNvSpPr/>
          <p:nvPr/>
        </p:nvSpPr>
        <p:spPr>
          <a:xfrm>
            <a:off x="1990800" y="1344600"/>
            <a:ext cx="4770360" cy="14637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ellyband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7" name="Rectangle 8"/>
          <p:cNvSpPr/>
          <p:nvPr/>
        </p:nvSpPr>
        <p:spPr>
          <a:xfrm>
            <a:off x="1990800" y="2863800"/>
            <a:ext cx="3141720" cy="18813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8" name="Rectangle 9"/>
          <p:cNvSpPr/>
          <p:nvPr/>
        </p:nvSpPr>
        <p:spPr>
          <a:xfrm>
            <a:off x="5253120" y="2863800"/>
            <a:ext cx="1508040" cy="14558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righ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9" name="Rectangle 10"/>
          <p:cNvSpPr/>
          <p:nvPr/>
        </p:nvSpPr>
        <p:spPr>
          <a:xfrm>
            <a:off x="1990800" y="48531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0" name="Rectangle 11"/>
          <p:cNvSpPr/>
          <p:nvPr/>
        </p:nvSpPr>
        <p:spPr>
          <a:xfrm>
            <a:off x="3560760" y="4861080"/>
            <a:ext cx="157176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1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92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95C2F47-A522-46CB-A23F-F118B080F38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4" name="Rectangle 5"/>
          <p:cNvSpPr/>
          <p:nvPr/>
        </p:nvSpPr>
        <p:spPr>
          <a:xfrm>
            <a:off x="1982880" y="2449440"/>
            <a:ext cx="2636640" cy="843120"/>
          </a:xfrm>
          <a:prstGeom prst="rect">
            <a:avLst/>
          </a:prstGeom>
          <a:solidFill>
            <a:srgbClr val="ff0000">
              <a:alpha val="1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5" name="TextBox 3"/>
          <p:cNvSpPr/>
          <p:nvPr/>
        </p:nvSpPr>
        <p:spPr>
          <a:xfrm>
            <a:off x="4773960" y="2185920"/>
            <a:ext cx="221688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For example, the region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left1” is populated b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component “list/wide”.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is component accepts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 property named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collection” – in this case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value of that propert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is being set to “news.top”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6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7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13300B5-C3E5-420A-920E-DAE947BD78E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8" name="Rectangle 10"/>
          <p:cNvSpPr/>
          <p:nvPr/>
        </p:nvSpPr>
        <p:spPr>
          <a:xfrm>
            <a:off x="2098800" y="48513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9" name="Rectangle 11"/>
          <p:cNvSpPr/>
          <p:nvPr/>
        </p:nvSpPr>
        <p:spPr>
          <a:xfrm>
            <a:off x="3670200" y="4859280"/>
            <a:ext cx="1569960" cy="10400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0" name="Picture 5" descr=""/>
          <p:cNvPicPr/>
          <p:nvPr/>
        </p:nvPicPr>
        <p:blipFill>
          <a:blip r:embed="rId2"/>
          <a:stretch/>
        </p:blipFill>
        <p:spPr>
          <a:xfrm>
            <a:off x="179280" y="936720"/>
            <a:ext cx="7467840" cy="1807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1" name="Picture 7" descr=""/>
          <p:cNvPicPr/>
          <p:nvPr/>
        </p:nvPicPr>
        <p:blipFill>
          <a:blip r:embed="rId3"/>
          <a:stretch/>
        </p:blipFill>
        <p:spPr>
          <a:xfrm>
            <a:off x="179280" y="1685880"/>
            <a:ext cx="8550360" cy="4389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302" name="TextBox 6"/>
          <p:cNvSpPr/>
          <p:nvPr/>
        </p:nvSpPr>
        <p:spPr>
          <a:xfrm>
            <a:off x="5497920" y="631800"/>
            <a:ext cx="218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js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3" name="TextBox 16"/>
          <p:cNvSpPr/>
          <p:nvPr/>
        </p:nvSpPr>
        <p:spPr>
          <a:xfrm>
            <a:off x="5121360" y="1384200"/>
            <a:ext cx="258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html.ftl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4" name="TextBox 3"/>
          <p:cNvSpPr/>
          <p:nvPr/>
        </p:nvSpPr>
        <p:spPr>
          <a:xfrm>
            <a:off x="4383360" y="2643120"/>
            <a:ext cx="40730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“list/wide” component loads the named asse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collection (“news.top” in this example), and then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renders information about each asset in tha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sset collec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2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285920"/>
          </a:xfrm>
          <a:prstGeom prst="rect">
            <a:avLst/>
          </a:prstGeom>
          <a:ln w="0">
            <a:noFill/>
          </a:ln>
        </p:spPr>
      </p:pic>
      <p:sp>
        <p:nvSpPr>
          <p:cNvPr id="112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728FA99-AA03-4CD4-A766-F612B8E1317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4" name="PlaceHolder 1"/>
          <p:cNvSpPr>
            <a:spLocks noGrp="1"/>
          </p:cNvSpPr>
          <p:nvPr>
            <p:ph/>
          </p:nvPr>
        </p:nvSpPr>
        <p:spPr>
          <a:xfrm>
            <a:off x="429840" y="1450800"/>
            <a:ext cx="8386920" cy="835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30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8CB5508-BAE4-49A5-8CD5-3BA70747357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7" name="Picture 4" descr=""/>
          <p:cNvPicPr/>
          <p:nvPr/>
        </p:nvPicPr>
        <p:blipFill>
          <a:blip r:embed="rId2"/>
          <a:stretch/>
        </p:blipFill>
        <p:spPr>
          <a:xfrm>
            <a:off x="2476440" y="1028880"/>
            <a:ext cx="3895920" cy="43434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8" name="Picture 2" descr=""/>
          <p:cNvPicPr/>
          <p:nvPr/>
        </p:nvPicPr>
        <p:blipFill>
          <a:blip r:embed="rId3"/>
          <a:stretch/>
        </p:blipFill>
        <p:spPr>
          <a:xfrm>
            <a:off x="1982880" y="779400"/>
            <a:ext cx="5010120" cy="5470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309" name="Rectangle 8"/>
          <p:cNvSpPr/>
          <p:nvPr/>
        </p:nvSpPr>
        <p:spPr>
          <a:xfrm>
            <a:off x="2098800" y="2862360"/>
            <a:ext cx="3141360" cy="188100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0" name="Title 7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963720"/>
          </a:xfrm>
          <a:prstGeom prst="rect">
            <a:avLst/>
          </a:prstGeom>
          <a:ln w="0">
            <a:noFill/>
          </a:ln>
        </p:spPr>
      </p:pic>
      <p:sp>
        <p:nvSpPr>
          <p:cNvPr id="131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3E0089C-53F5-4698-BEC7-344815E9AC0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2" name="PlaceHolder 1"/>
          <p:cNvSpPr>
            <a:spLocks noGrp="1"/>
          </p:cNvSpPr>
          <p:nvPr>
            <p:ph/>
          </p:nvPr>
        </p:nvSpPr>
        <p:spPr>
          <a:xfrm>
            <a:off x="429840" y="906120"/>
            <a:ext cx="8386920" cy="7714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 fontScale="68000"/>
          </a:bodyPr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wiki.alfresco.com/wiki/Web_Quick_Star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forums.alfresco.com/en/viewforum.php?f=52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witter: @Alfresco, @brian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13" name="Picture 1" descr=""/>
          <p:cNvPicPr/>
          <p:nvPr/>
        </p:nvPicPr>
        <p:blipFill>
          <a:blip r:embed="rId2"/>
          <a:stretch/>
        </p:blipFill>
        <p:spPr>
          <a:xfrm>
            <a:off x="1106640" y="2089080"/>
            <a:ext cx="39668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2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DCE0173-3E42-4CBA-9F52-0398B20003F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27" name="Picture 5" descr="C:\Users\Brian\Documents\alfresco\cheetah\wcmqs-devguide\wcmqs-basic-model-cropped.png"/>
          <p:cNvPicPr/>
          <p:nvPr/>
        </p:nvPicPr>
        <p:blipFill>
          <a:blip r:embed="rId2"/>
          <a:stretch/>
        </p:blipFill>
        <p:spPr>
          <a:xfrm>
            <a:off x="487440" y="779400"/>
            <a:ext cx="8169120" cy="5211720"/>
          </a:xfrm>
          <a:prstGeom prst="rect">
            <a:avLst/>
          </a:prstGeom>
          <a:ln w="0">
            <a:noFill/>
          </a:ln>
        </p:spPr>
      </p:pic>
      <p:sp>
        <p:nvSpPr>
          <p:cNvPr id="1128" name="TextBox 3"/>
          <p:cNvSpPr/>
          <p:nvPr/>
        </p:nvSpPr>
        <p:spPr>
          <a:xfrm>
            <a:off x="1695960" y="1901880"/>
            <a:ext cx="92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site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9" name="TextBox 5"/>
          <p:cNvSpPr/>
          <p:nvPr/>
        </p:nvSpPr>
        <p:spPr>
          <a:xfrm>
            <a:off x="3441960" y="1881360"/>
            <a:ext cx="95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roo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0" name="TextBox 6"/>
          <p:cNvSpPr/>
          <p:nvPr/>
        </p:nvSpPr>
        <p:spPr>
          <a:xfrm>
            <a:off x="5343480" y="188136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s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1" name="TextBox 7"/>
          <p:cNvSpPr/>
          <p:nvPr/>
        </p:nvSpPr>
        <p:spPr>
          <a:xfrm>
            <a:off x="6683040" y="4216320"/>
            <a:ext cx="172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Coll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2" name="TextBox 8"/>
          <p:cNvSpPr/>
          <p:nvPr/>
        </p:nvSpPr>
        <p:spPr>
          <a:xfrm>
            <a:off x="3767040" y="4216320"/>
            <a:ext cx="105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3" name="TextBox 9"/>
          <p:cNvSpPr/>
          <p:nvPr/>
        </p:nvSpPr>
        <p:spPr>
          <a:xfrm>
            <a:off x="3573360" y="5732640"/>
            <a:ext cx="147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visitorFeedback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1803128-1902-481F-BCAC-56461469DC5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6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Groups of assets that are uniquely named within the scope of a particular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Stat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Editor control over which assets are includ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Dynam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onfigured with a search query, maximum number of results, and a refresh period in minutes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The query is executed periodically (as configured), and the results are placed in the asset collection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MIS and Lucene support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37" name="Picture 3" descr=""/>
          <p:cNvPicPr/>
          <p:nvPr/>
        </p:nvPicPr>
        <p:blipFill>
          <a:blip r:embed="rId2"/>
          <a:stretch/>
        </p:blipFill>
        <p:spPr>
          <a:xfrm>
            <a:off x="5214960" y="1058760"/>
            <a:ext cx="2790720" cy="158112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38" name="Picture 4" descr=""/>
          <p:cNvPicPr/>
          <p:nvPr/>
        </p:nvPicPr>
        <p:blipFill>
          <a:blip r:embed="rId3"/>
          <a:stretch/>
        </p:blipFill>
        <p:spPr>
          <a:xfrm>
            <a:off x="5138640" y="3067200"/>
            <a:ext cx="3009960" cy="2647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155755F-6F71-40DA-918B-06D43F54906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1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2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EAD57C7-52C4-4B40-959D-1A689A51E78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5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6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47" name="Picture 3" descr=""/>
          <p:cNvPicPr/>
          <p:nvPr/>
        </p:nvPicPr>
        <p:blipFill>
          <a:blip r:embed="rId3"/>
          <a:stretch/>
        </p:blipFill>
        <p:spPr>
          <a:xfrm>
            <a:off x="415800" y="3322800"/>
            <a:ext cx="6689880" cy="59688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E5CCE58-AA2E-436A-965C-08DDC6B571B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0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1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2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7540EA1-7632-4443-8BA1-0F2B7E40FEA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4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5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56" name="Picture 2" descr=""/>
          <p:cNvPicPr/>
          <p:nvPr/>
        </p:nvPicPr>
        <p:blipFill>
          <a:blip r:embed="rId3"/>
          <a:stretch/>
        </p:blipFill>
        <p:spPr>
          <a:xfrm>
            <a:off x="179280" y="1131840"/>
            <a:ext cx="8829720" cy="471636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5T14:57:41Z</dcterms:created>
  <dc:creator>Linton Baddeley</dc:creator>
  <dc:description/>
  <dc:language>en-US</dc:language>
  <cp:lastModifiedBy>Brian Remmington</cp:lastModifiedBy>
  <cp:lastPrinted>2011-09-06T09:51:35Z</cp:lastPrinted>
  <dcterms:modified xsi:type="dcterms:W3CDTF">2011-09-09T08:28:58Z</dcterms:modified>
  <cp:revision>223</cp:revision>
  <dc:subject/>
  <dc:title>Slide 1</dc:title>
</cp:coreProperties>
</file>