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47.png" ContentType="image/png"/>
  <Override PartName="/ppt/media/image10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35.png" ContentType="image/png"/>
  <Override PartName="/ppt/media/image26.png" ContentType="image/png"/>
  <Override PartName="/ppt/media/image63.png" ContentType="image/png"/>
  <Override PartName="/ppt/media/image28.png" ContentType="image/png"/>
  <Override PartName="/ppt/media/image25.png" ContentType="image/png"/>
  <Override PartName="/ppt/media/image62.png" ContentType="image/png"/>
  <Override PartName="/ppt/media/image61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20.png" ContentType="image/png"/>
  <Override PartName="/ppt/media/image57.png" ContentType="image/png"/>
  <Override PartName="/ppt/media/image5.png" ContentType="image/png"/>
  <Override PartName="/ppt/media/image1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1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notesMasterIdLst>
    <p:notesMasterId r:id="rId28"/>
  </p:notes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  <p:sldId id="265" r:id="rId38"/>
    <p:sldId id="266" r:id="rId39"/>
    <p:sldId id="267" r:id="rId40"/>
    <p:sldId id="268" r:id="rId41"/>
    <p:sldId id="269" r:id="rId42"/>
    <p:sldId id="270" r:id="rId43"/>
    <p:sldId id="271" r:id="rId44"/>
    <p:sldId id="272" r:id="rId45"/>
    <p:sldId id="273" r:id="rId46"/>
    <p:sldId id="274" r:id="rId47"/>
    <p:sldId id="275" r:id="rId48"/>
    <p:sldId id="276" r:id="rId49"/>
    <p:sldId id="277" r:id="rId50"/>
    <p:sldId id="278" r:id="rId51"/>
    <p:sldId id="279" r:id="rId52"/>
    <p:sldId id="280" r:id="rId53"/>
    <p:sldId id="281" r:id="rId54"/>
    <p:sldId id="282" r:id="rId55"/>
    <p:sldId id="283" r:id="rId56"/>
    <p:sldId id="284" r:id="rId57"/>
    <p:sldId id="285" r:id="rId58"/>
    <p:sldId id="286" r:id="rId59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notesMaster" Target="notesMasters/notesMaster1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slide" Target="slides/slide10.xml"/><Relationship Id="rId39" Type="http://schemas.openxmlformats.org/officeDocument/2006/relationships/slide" Target="slides/slide11.xml"/><Relationship Id="rId40" Type="http://schemas.openxmlformats.org/officeDocument/2006/relationships/slide" Target="slides/slide12.xml"/><Relationship Id="rId41" Type="http://schemas.openxmlformats.org/officeDocument/2006/relationships/slide" Target="slides/slide13.xml"/><Relationship Id="rId42" Type="http://schemas.openxmlformats.org/officeDocument/2006/relationships/slide" Target="slides/slide14.xml"/><Relationship Id="rId43" Type="http://schemas.openxmlformats.org/officeDocument/2006/relationships/slide" Target="slides/slide15.xml"/><Relationship Id="rId44" Type="http://schemas.openxmlformats.org/officeDocument/2006/relationships/slide" Target="slides/slide16.xml"/><Relationship Id="rId45" Type="http://schemas.openxmlformats.org/officeDocument/2006/relationships/slide" Target="slides/slide17.xml"/><Relationship Id="rId46" Type="http://schemas.openxmlformats.org/officeDocument/2006/relationships/slide" Target="slides/slide18.xml"/><Relationship Id="rId47" Type="http://schemas.openxmlformats.org/officeDocument/2006/relationships/slide" Target="slides/slide19.xml"/><Relationship Id="rId48" Type="http://schemas.openxmlformats.org/officeDocument/2006/relationships/slide" Target="slides/slide20.xml"/><Relationship Id="rId49" Type="http://schemas.openxmlformats.org/officeDocument/2006/relationships/slide" Target="slides/slide21.xml"/><Relationship Id="rId50" Type="http://schemas.openxmlformats.org/officeDocument/2006/relationships/slide" Target="slides/slide22.xml"/><Relationship Id="rId51" Type="http://schemas.openxmlformats.org/officeDocument/2006/relationships/slide" Target="slides/slide23.xml"/><Relationship Id="rId52" Type="http://schemas.openxmlformats.org/officeDocument/2006/relationships/slide" Target="slides/slide24.xml"/><Relationship Id="rId53" Type="http://schemas.openxmlformats.org/officeDocument/2006/relationships/slide" Target="slides/slide25.xml"/><Relationship Id="rId54" Type="http://schemas.openxmlformats.org/officeDocument/2006/relationships/slide" Target="slides/slide26.xml"/><Relationship Id="rId55" Type="http://schemas.openxmlformats.org/officeDocument/2006/relationships/slide" Target="slides/slide27.xml"/><Relationship Id="rId56" Type="http://schemas.openxmlformats.org/officeDocument/2006/relationships/slide" Target="slides/slide28.xml"/><Relationship Id="rId57" Type="http://schemas.openxmlformats.org/officeDocument/2006/relationships/slide" Target="slides/slide29.xml"/><Relationship Id="rId58" Type="http://schemas.openxmlformats.org/officeDocument/2006/relationships/slide" Target="slides/slide30.xml"/><Relationship Id="rId59" Type="http://schemas.openxmlformats.org/officeDocument/2006/relationships/slide" Target="slides/slide31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dt" idx="2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ftr" idx="2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6"/>
          <p:cNvSpPr>
            <a:spLocks noGrp="1"/>
          </p:cNvSpPr>
          <p:nvPr>
            <p:ph type="sldNum" idx="2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97D3762-9376-4647-B4AC-F121BB9663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4B091F-E541-4685-AA6E-7DDD15E5B9B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742F332-B53B-4A9D-9C99-DB10AB3E9EB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E5EB9A-9D5C-4350-8C99-DFDC6116FB9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6015C73-215E-4C4B-90C3-6FB99DC4277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652814-8A22-4A4A-833F-1EFD28CD2C7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DF460AC-3B3C-4167-A129-65E3410241B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38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FD3036-11C3-412E-A682-600AB67926B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7946D0D-21A7-453E-9AE3-AA0A98607F5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2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9A0044D-EFCC-4A62-8F70-C627EEBC25D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B8B24A-31C4-475E-9666-B45A2DD34ED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5D4DC27-20FB-4ED5-8894-D7353A9F5F8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AD0F350-DF77-408F-8809-7B304BCC834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F1BA6C4-AA39-45B5-B23F-315A2D735B8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FAE057-3C3C-4345-BE73-5ACA8C4C8DF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A4F1A68-9DCC-4CD9-A55A-2DBDA907B46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F2D225-3549-405B-9577-57DFACE8B40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458B19-40A1-497B-96B4-1D9FCF006A1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0F9BAA-72C5-44D2-A34E-633742D358B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99FFBB-0F1F-4CD6-8B47-C578442BDA3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reate new site and import WQS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doc lib, pointing out things of interest: website metadata, folder structure, collections, section template confi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dit the port number for the editorial site, and remove the “isEditorial” fla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the website: into each section – blogs l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ake a look at the data list(s) that have been created (empt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ost a comment to a blog post, show it appear in the data li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ack to site – show the comment on the blog page (including coun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oad a new image into the news section (Koala) – show the rendition definitions for the news s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ind a news article on the website and point out its image. In Share, edit the primary image of that article to be the Koala. Show the change on the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to Share. Add a tag or two to some news art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nto site: show the tags appear on the articles and the tag roll-up on the news landing p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nd a “contact us” requ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 contact us request in the data list and the workflow task in admin user’s task li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ublish section structure some example articles (blogs?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m appear in Share and on the “live”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38B375-AF97-420B-8C3F-3E9CEBB281B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96E13BC-D34E-49D7-83BE-13D2D72BE46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E3EB6A-AFE7-44CC-9FB8-A5ABE304B48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6DF243C-1C98-4D0A-BA12-6C0CAC21C2D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C28610-FC00-4E74-ACB1-755FF605F4A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0C18BE8-097E-44EF-A4AD-09D944B418E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E135EF-FD21-4254-B964-2B13239270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843BA9-303F-4BA0-8B5F-5F5911088FD8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691F53-E882-488D-B9B9-1ECB64CD8F56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78DD93-B535-4460-A7C0-8AC469718470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AFE077-60B0-4571-867C-8280B1518028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18CB0D-07FE-403C-AC18-A0D6E6495738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63B4CA-ED53-48F1-846A-4C585D02BD92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C65167-77A8-4668-A123-D5C9F3DBB5E0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6FA5BE-5EAB-47FB-9047-4512213709E4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14B315-7E43-49B0-9CF7-E9FD5B5D175C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6DFC45-757F-41F4-8E2B-2079D0022DCE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2514C9C-3CE5-41FC-84B7-D454A85375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FB8459-7236-4306-BA66-BB6989349F9B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405279D-4F71-429C-A8BD-1C17A75B34B2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2BEDCC2-26B7-491C-8A5A-0BCA6854531B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1645C35-12A4-4028-9C79-5925478D88B8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483D6E5-BB05-4E41-9D01-D633A635532E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553F4CD-EC61-4668-AC4E-E5F087DD149A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D057D39-9AB0-4045-AFF1-3552BCB42CDD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30DE93B-5814-4E64-ADBF-F78C89A60971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60F0A8E-6169-40E8-A95D-F4D271B94204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EDF2762-8E2C-44FA-BFAF-BE0B4C3189A9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585B91D-73B8-44A0-8E5A-6F6C6AC2C9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AF6451-EDDB-4D4A-B5D5-BC83068647C7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DAB17F3-9C3B-44F4-8871-6B5E618A0DC4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9E4EF8F-984E-48CE-B8C0-D3B0731F4251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4C525B6-B4D0-4DCF-AD66-18780915EF30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DBBF540-81FB-4AA0-A921-201B0E988F5E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081BBFC-1BAA-47C5-8CD9-F8D38396D99F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DDF5CAE-14BF-483A-9D99-DA4D6E8C6A47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EB7F3D5-3488-4670-8B2D-D264BF40FC74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3E54AB2-EC6F-4F20-8AD9-1652827607A9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8C5E425-466E-4EEA-B3F8-BAD1566EAF48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38B4CEB-FF81-4B60-B68A-81956EAF33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248C1F-AC64-457C-A3D6-A2E3985F5A51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3AE3094-AD4F-43F2-8651-4FD598CD52D2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016A581-1C77-41C4-A2EE-419DF15E3C75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4AB3C09-26D3-4C48-AEAB-A37E55B5C950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2F354B-82C0-4DCC-9F3C-1070EE64245B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F1CAEE-6E83-466C-B917-0F20059F651B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B5495A-CC7D-4F7A-A958-61AE7E3A9D63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874087-CEF7-46E5-A1CA-E0DE362002AE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EE6BDC-32FF-41B1-BF7A-559F6B94B778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ADDCAE-5CC9-43E1-A27D-F25F884C9013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6C9692-D02A-405D-9AAA-7C18C0A71CD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70A4AC-E1AB-42EB-B519-51579D7610E9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B05F1D-EACB-4616-9523-8D9D20CD9E87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8C2872-5938-49BF-B9D0-1583D94AC6B2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CD5EC6-D0D0-4604-8D32-0D8CE6740479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86B1F4-65B8-47B5-A57A-8ACC0ABD5572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EDF5B8-38CB-4121-B6F0-546174B47FFA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B7CCBD0-0174-41AB-92E2-FD16BF13F5B6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C847C37-FFB8-4DA3-9F6B-9234CBCFECB7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E0414FE-B944-4479-910A-075EAFB9052A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3BD00BC-E088-40EE-BC0C-215354A05B68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C149A74-3BCE-4061-8AFE-BB0882FA8D0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FF0077-F98A-4A74-B6DB-7B006EE1E58F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72396CC-A692-42BE-8A0D-6F2E8340A062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4487D73-BAAE-4716-B03B-FB85161EC3B2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95BBA67-8A88-49ED-82FD-74354B33188E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ECE4E33-4D90-479C-B8C9-7A7104113F67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D20594D-CB40-40CF-A826-0CD29EC55737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967C7C2-C9EF-4F0C-96D7-824073E3B48C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2DA4614-E99F-48D5-9568-E79C396209AE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6F585C5-A4F2-43CD-9753-F1FC11C3F320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D68794E-7701-4FC1-9993-248943750028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D9F93EB-B06F-4009-AA1E-A9345407965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F62A24-5ED8-455F-BBD2-9EE9CC1C5AD0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0928339-0FF7-4EF8-84F2-612640E4A22D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DCBD0D2-C553-4241-B6E2-A7527BBE34A4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FD9C70C-78BE-4834-B8D9-8BEDEF97AA2E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D5EF3FB-E3C7-45AF-9E3A-811CE8115B0A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95C58D1-A633-4A9E-8EB6-8C6D219A9443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E38B252-B379-4E75-A837-2B33FF7370CC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7E16D20-4E5C-4518-A5D0-CF163C61BC87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C853227-1339-4514-92C5-EC89EDD079F3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259807B-519F-490E-A7A1-C9CC9A54BE8F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5240E2-6A24-4ACC-A8FD-3521AE522E7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59BDDF-4F72-43EE-A957-CF4BCF8FFDB3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575C04-7686-441C-A242-D5FB3076C129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B16C8D-CC8B-4271-8D71-5901B73A728D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DBDFE8-C721-410A-9FA7-8C3224BE0DCE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F5B20B-FF1D-4F51-AE61-C6A5DE13B374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605932-4947-49C1-BB12-71028B527A32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BD04FB-6D9D-4705-949D-9C3BA3C60501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F30FD9-3673-4837-9DDC-F4495772CA74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61C03F-CAC4-4239-81C1-36D180531050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F0170D-A346-4E56-A70C-B0162350681C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1C5944-ECCB-4354-93C0-F7D12A0593F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21CCD3-3E90-4BEF-9698-C7DC138139BB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0E0712-6161-44F3-B5B7-6FD3C95B102D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80E0959-3E8A-453F-9B58-CBC68148F6E2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DE256FA-AF51-4E47-87B5-6E581E5B18DD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3BCF5E2-A53F-44B6-BB1C-A5CBA0876451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947E836-84D9-45EA-9F4B-BC07E2F5D2D5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1F164A0-2E35-4255-94EB-C64D7F1D70DE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43B6C16-F36D-45B6-9BA3-E2C40CC10E34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CF771D4-FDCC-4C79-8561-044CD3D37477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B912EDA-516D-4D15-9B57-F3504E453401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C3F3D75-F160-4F9C-BD2B-E971585CBFF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8C8234-4D5A-4D6B-8241-70314245BEFC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F3C1616-736A-4979-AA6B-83534AC69212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BBBC20B-DF37-4CCE-A008-65D99159A19A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10175EA-561A-482C-9FC2-DB6322CF5AC5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6B032A0-2292-47D7-A289-45266191FFE7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3501360-CC25-4AD5-9102-BB5D6974E0EC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4288DA1-352C-4639-A05F-EA56E59A78C3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A41978E-A406-4BDD-BA51-0BEA372DAA18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EE2A65B-01A6-403A-9A2F-556A6EE29A15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F7C887F-FFC9-4FEE-8E19-F46C137923B6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D0D70FE-D632-4DBA-98FD-EC2DCE53F46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0DBA76-AB1C-49BB-82BC-FE827A5205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1EF894-1EBB-4C9A-829C-BBB7B81B6992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6800FA5-B1CA-4455-A716-83B87FE6BB38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B6C0C6C-E09D-499F-A07F-A981916DA5F7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B268F7D-5F1F-438E-810C-466F37504170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848FFC4-A95F-44DC-B133-6036E8D98E53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AA78117-3B07-4348-B40D-C2041C23D81C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273F25-A7F0-47C5-8241-8A05C3D140F1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6FD9B6-849F-452E-96A5-C2B969586C36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935462-1D21-4DBE-8738-5F7EBD1D8AF0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D7D34D-9138-4129-A1E9-799F727C519B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C4DDEB-1194-4D94-BDE8-22D31C9208B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F51F30-0396-4298-96B4-7ABAD4DB7689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D5DA67-E63B-4E12-9AF9-DF8D9340B910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A58A4D-9746-4EFD-BD2E-7941A5AB9422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B827BD-7715-446C-B918-0590A01C6B8A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A9E036-DBCB-4D9F-8954-ADCE6E17724F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D1B6E4-DFA1-426D-868D-C292FDC7428B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95665F-D26F-44E0-B9BD-DFBA21DD420A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C171A0-9AB6-4702-AC94-23660455292E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D7CCAC0-79D1-4159-A324-650F862ED35F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862DD5A-9FEF-46BD-BA06-5FD72C1E265B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B0BE88F-362A-4470-9523-EB3E97710D7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ECC889-7737-41EC-8D20-6B606FC403C0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A7E21C4-0F19-482A-B451-B7F397FFE29F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41DB4FE-78B4-4703-89F0-DF93526BAE7C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7D3A5C1-5FDC-4721-BD97-63172A2ECDF9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ACEAA54-712A-4C28-ACC1-8C0C2FF02643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2961D6C-C5D4-4705-BA46-2F89FF8D2269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6B01A76-EA99-4B16-90F4-4CA11726AC85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27154BA-1DA5-472E-9CF4-C8F5B7924540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C4582BB-9980-4A8A-80C3-FE0B042662CE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C8445AC-23CB-48A7-8324-5C279F3F7BE4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5F92249-F04D-4FFA-B3B3-DB47C411536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544C97-C59C-4F31-A258-7BB8C68DAB33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FB769B9-F84A-4CEA-84D4-F3B2BFAA5CEB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EA73AB1-00C0-47E5-83A4-61A9BB3A81FB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775960B-DAB6-4512-A7A7-64BAFD7FE7C1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6D6BB22-DF7B-403E-B47E-8D9BC2456D84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533A343-02A6-4690-93E0-CE4C51521627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029491D-3E39-4541-9AD6-67ECE5998124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DC0BF9B-1D93-4A73-981F-DE5895D2BFC5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2BD4CC0-7952-43C8-855C-A740FA6E7966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5A0CEDF-FBC8-4D47-8209-80F8B276BA9E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19A6E13-3E49-4CAB-A447-856D5FD87F6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B8854D-57BA-4978-B78F-EDCE25A48CB9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83440B5-2EE0-4EF5-B945-01B8E4A15907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B09157-9369-4B99-B5B5-48076B72011B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86C55A-8369-4DFC-A2FD-6A4A7F90993B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9F3C3B-7569-4905-9EEA-83136DC8E76A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8B399F-28BF-49BC-8AF8-3891E7388D04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1F1803-DD75-49FA-B97D-73F853CD0298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C62DC6-11A7-4E8C-964B-7C4D4DCA41AC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06B8AE-4ACE-49B9-ABB5-0A79A0E72FC6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D4E882-BDED-4861-B37C-0B539A64C3C6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1B1681-57E4-4DD2-BC9F-8964C4514D8A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E340E-AC5D-4BA1-B629-58E4A0063748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EE268F-28A4-4C41-AC79-C3B3B98DB27A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CAECA1-0269-4C81-98AA-F96567D60FDC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6C32BC-5817-4657-92A2-106DAF1A1147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C976770-A172-4706-A1A7-AB866DD06E3C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6581DE0-675C-464C-85B1-5879CC13985E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8657E25-05B7-433F-8C5D-537977BF12F6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A6E9088-56B6-4687-85D9-4A551C860995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4501B46-B52F-4DC5-9117-996FC2E2C342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ACFEA09-55FA-4CFD-A594-04AEDFB3B971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F34B90E-3647-439E-830E-442F1B53146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D73CC-D910-4545-980B-D552AB01DC46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DDFD1BE-1813-4458-8B87-27413A133120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9868226-B0AB-4A39-96ED-E6AE682802B7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7B83FB6-7B45-45B5-95E8-7A94B1EC7570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190CAF5-9A93-4C18-A543-0624507515F8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6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7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4782DF5-EB12-4D31-AC62-4B394DC18F06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1837129-70B3-4DE1-B6D4-712A6D8AA157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355D72B-BC09-4C5A-8D81-0C02B403A40B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C812964-DFEF-4D0D-A45B-B3A89B1658FF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EDF6923-5564-43E1-BC63-8985A33249AA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DC1448B-E6B7-4A9F-B97D-5E6E1881212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332D2-A91E-425C-8413-09029D33E421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4890FC4-53C1-42E0-8BAC-2C35922E4206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B2DD590-C966-45A4-BCC6-0DFAA90F18B1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9BC17A3-9E3C-4CFF-953C-9842B4E60FCB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C76DC9D-6654-43BF-B516-2594E323A72F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9F5C3EB-EA5B-4049-85C4-CD081CD5A8D4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9DF5CFB-F901-4F5E-B6D3-28D153B1A259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166F251-B61F-45D9-8D86-D2980EAE0534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89ADEA-9EB3-494A-B62F-8F5606FC8F95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B76C01-A83D-42D2-9EF6-7CADFA5FCF54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60AEFF-FBFF-4DE1-95DD-6F2715EEDE6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204C1-2507-42C8-A200-72A33737B859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881250-CF6E-4BD7-8608-B59579C391C6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98059A-1F65-415A-B16B-896C71E3E4C6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11EC02-1E60-4758-A74E-7699DD0903CD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F2B1C2-30C3-4995-B6FE-2135073602AD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D20D8E-D19A-4725-91D2-67D5D016CEE0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C869AD-B3E0-4609-BD53-17E3ECF8B2D8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F8F027-C756-4CBE-9C51-DE53D9A441FB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222208-F563-44D0-BFE9-D2EC85E6DD32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9D64B6-E010-44BD-A237-5B7055903FD3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1CD6355-C52A-47DC-A792-C0E7D263C75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91BFB-898D-4C18-8FC8-FD0AECDA3070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CCAEBEF-3721-4BF4-8C3A-F197F51E6939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C27BC3B-A75E-4919-BC37-BB9D674EA6C3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DBF08E3-B7AC-4E2E-A2C3-A56E2707654D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76BB37E-1F7C-4C2B-9023-5BBFC8BC5FDD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5F262D5-052C-4728-BC3E-2F6FDC11EAE0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FC15F2A-938F-4222-9EBF-1E6E655F895B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426C865-15CD-4B59-A417-0EBE0D3E13BB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11B300F-1A9A-484C-8D41-CE3D66EDBC19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4144DDF-131E-468E-A96A-B6101ED0E7E5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B5DF48C-E5E3-4C24-81B6-21C94EBF48F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CF2D2A-5215-4589-8E18-459506A01FB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9F586-1356-4549-837D-EBEFFBA97F48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E5B6391-D147-49B1-AD3E-B74A238A1610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728E453-982C-49A5-B89A-C15E06261ECF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D7ADCF0-353D-4942-AFEF-B6B93D91A9C3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9282498-F00E-4CD4-8897-DD53C7CA92D7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2A9BDA9-DD0F-47A3-A6D8-D1F9A213F572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4FB3925-7C2E-4272-BEFD-33987D5406D5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0D99B36-5005-4FFA-9B46-C237819D9AB9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CABEB64-9E67-4FC1-9171-E78DF6273D03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6E7635D-AAF5-4F6E-908D-FFC29EFB6E97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A1F5A04-AC53-4ED6-87D1-00276E14B3F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6F2A3-95AC-46B4-91C4-1A7809CA73BE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92D2F83-005C-4F7C-8312-A9E50DEF79D3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F2F7963-1E09-45DC-9F05-C3A5FA1CC65D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8947311-F9E0-4668-BC3E-033B80AF01A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6C676-3066-4206-BECC-7E3D90B31E6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BCAC2-99DD-4685-BEDA-C7FDFC5EF88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C74AD-00E2-4604-AE9F-7FCDE54277C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350FB-CBDA-4F22-A379-1DC5A876A91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9DC80-56F2-46D8-9CEF-2091323960DF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D306B1-E80E-4B96-8920-0363BEA4926B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310287-438C-4BF7-B522-D92ABAEBFC0E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EC8FB3-E4FA-424F-80AA-37DE3917D3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2F3BA9-D567-49DF-BCC4-26070A5C46C7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4CEACA-75E0-487C-B7C4-099CE6ACB5B0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20EAE2-ED6E-473F-B9C7-DC0517CB761F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6B38E6-18EA-4385-9D43-640E35AC1492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08D33F-AB18-4E99-82A2-EE911203FA1F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859F80-5E1B-4E63-90D8-B4BF7B52B04C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FC70DB-5750-4628-ABC8-84DFBD9E6057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7AD766-BBDD-4167-9E5A-12F693B190F4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4BD8BC-89DD-4261-872E-6272F19D5766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4A7A25-AC75-43BD-8F07-B2A3DC64690F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7288C1-BFA3-4200-AF57-6AD242407D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D8A03B-ED21-4392-8129-5143575D9478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75683A-7443-4E39-AE7B-8EAD77060650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9E611C-9B6F-4F57-B88C-CFF1354447AD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024865-8E4D-40FC-AD2F-5BE5D7F6379E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214819-AB39-4DFE-9428-311891C8F071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6A0FFF-35C1-412A-A4A2-DE4C6B7BA6C4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5C267F-C01C-496C-9DA6-AE654ECC5832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7E0F60-9F05-48C7-963C-ABA232A537FA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07212B-92AE-492D-8F5D-5526DD334564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B56C19-EFE5-4161-B050-0225D7D671C3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B26E32-70F9-4B47-B82A-ADC9F35F39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CBA1B4-797D-4C4F-85D2-606DE0463BB5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35171C-D967-4E1D-8EF7-E3724768076C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987FE-1A49-4185-982F-43DDA0B3C2DA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8FD74-E1A3-45A5-8F24-465DFA0FF57B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B677D-7FBC-4DCA-A08C-A06F66B20809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C397D-481D-41B7-9706-E0753E51B5C9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CF643-4B31-49E9-814F-C0C6413BDEA3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60BCF-74B6-4856-95F7-3894C5458CF8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19225-A820-42BE-809C-597A0F4372F3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92530-7D0C-4863-B4CB-82A543FD7227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863E2-3D2E-4F8B-A757-D43A23BE2F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E2B848-8844-4470-8735-0FF7608B04CE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B0363-5602-430F-AE2D-FDDED3371DBD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01298-E1DB-4CCB-9F7D-1E295058A627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CE910-0787-4C3E-9F8B-24B2229ECE17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1B6D0ED-94F5-4A36-9D2E-7CD14511C24B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E54EE93-7CF3-4A06-A253-0D9BEE1B509E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602B0A0-9DAD-4D20-8829-BCFD0E7FDDA4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08FBAFE-B34F-41CC-90F4-0C2822B0DCBC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141CE5D-7EC7-4A54-A4BA-C9D792E5DFE2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CD5267B-A0B9-4146-A9B3-69411F48F92F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6960489-0B60-4218-9CA0-40A70568D5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357194-4038-49D1-A668-CE1047E5648D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8329532-3B72-45CF-9E72-7208D7E29033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293EDB2-3ACD-477F-9D53-60043327C7CF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8889106-7D3C-47E2-88B9-17D0A12B6585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54DE839-5A33-4E08-AD7C-5B78F776A30E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83ABF6D-A099-4B5A-ADB5-CB4DF0D3DF6D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FDAB052-7940-45B2-83DA-C93E7A956032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2DED555-58F5-4320-A412-666A5F826826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BCFEF13-103C-4A33-B0B4-6C9180DB6380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AE2C0C6-506A-43B0-A6C9-E58CE44DE00A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B02FF62-ABB8-4ED4-9B77-6F3DF3D888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832354-7AFF-49CD-8F32-143D252B1193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4456E2D-DBD5-4925-A505-A343148463F5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4F70CE6-D76E-4556-B9C2-8FB9A1705566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AFC5D2E-46AD-46D9-BF4B-1C18E002DF2C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758FD68-95DB-4526-BA83-21E7FD41A610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06DE99-973A-437A-AAEE-6FC6E784FDAF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A5363B0-74FD-4BF5-AB45-A22A4506F014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3112F63-5A12-49D9-BC9A-D7FB045F6307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90B641-3A5F-4633-A145-72E04101061F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D2FC7C-8966-449C-B982-F317B961E007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E2F6F1-9A93-4DD5-AED9-0A3AE5ABAB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41.xml"/><Relationship Id="rId6" Type="http://schemas.openxmlformats.org/officeDocument/2006/relationships/slideLayout" Target="../slideLayouts/slideLayout242.xml"/><Relationship Id="rId7" Type="http://schemas.openxmlformats.org/officeDocument/2006/relationships/slideLayout" Target="../slideLayouts/slideLayout243.xml"/><Relationship Id="rId8" Type="http://schemas.openxmlformats.org/officeDocument/2006/relationships/slideLayout" Target="../slideLayouts/slideLayout244.xml"/><Relationship Id="rId9" Type="http://schemas.openxmlformats.org/officeDocument/2006/relationships/slideLayout" Target="../slideLayouts/slideLayout245.xml"/><Relationship Id="rId10" Type="http://schemas.openxmlformats.org/officeDocument/2006/relationships/slideLayout" Target="../slideLayouts/slideLayout246.xml"/><Relationship Id="rId11" Type="http://schemas.openxmlformats.org/officeDocument/2006/relationships/slideLayout" Target="../slideLayouts/slideLayout247.xml"/><Relationship Id="rId12" Type="http://schemas.openxmlformats.org/officeDocument/2006/relationships/slideLayout" Target="../slideLayouts/slideLayout248.xml"/><Relationship Id="rId13" Type="http://schemas.openxmlformats.org/officeDocument/2006/relationships/slideLayout" Target="../slideLayouts/slideLayout249.xml"/><Relationship Id="rId14" Type="http://schemas.openxmlformats.org/officeDocument/2006/relationships/slideLayout" Target="../slideLayouts/slideLayout250.xml"/><Relationship Id="rId15" Type="http://schemas.openxmlformats.org/officeDocument/2006/relationships/slideLayout" Target="../slideLayouts/slideLayout251.xml"/><Relationship Id="rId16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3.xml"/><Relationship Id="rId6" Type="http://schemas.openxmlformats.org/officeDocument/2006/relationships/slideLayout" Target="../slideLayouts/slideLayout254.xml"/><Relationship Id="rId7" Type="http://schemas.openxmlformats.org/officeDocument/2006/relationships/slideLayout" Target="../slideLayouts/slideLayout255.xml"/><Relationship Id="rId8" Type="http://schemas.openxmlformats.org/officeDocument/2006/relationships/slideLayout" Target="../slideLayouts/slideLayout256.xml"/><Relationship Id="rId9" Type="http://schemas.openxmlformats.org/officeDocument/2006/relationships/slideLayout" Target="../slideLayouts/slideLayout257.xml"/><Relationship Id="rId10" Type="http://schemas.openxmlformats.org/officeDocument/2006/relationships/slideLayout" Target="../slideLayouts/slideLayout258.xml"/><Relationship Id="rId11" Type="http://schemas.openxmlformats.org/officeDocument/2006/relationships/slideLayout" Target="../slideLayouts/slideLayout259.xml"/><Relationship Id="rId12" Type="http://schemas.openxmlformats.org/officeDocument/2006/relationships/slideLayout" Target="../slideLayouts/slideLayout260.xml"/><Relationship Id="rId13" Type="http://schemas.openxmlformats.org/officeDocument/2006/relationships/slideLayout" Target="../slideLayouts/slideLayout261.xml"/><Relationship Id="rId14" Type="http://schemas.openxmlformats.org/officeDocument/2006/relationships/slideLayout" Target="../slideLayouts/slideLayout262.xml"/><Relationship Id="rId15" Type="http://schemas.openxmlformats.org/officeDocument/2006/relationships/slideLayout" Target="../slideLayouts/slideLayout263.xml"/><Relationship Id="rId16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65.xml"/><Relationship Id="rId6" Type="http://schemas.openxmlformats.org/officeDocument/2006/relationships/slideLayout" Target="../slideLayouts/slideLayout266.xml"/><Relationship Id="rId7" Type="http://schemas.openxmlformats.org/officeDocument/2006/relationships/slideLayout" Target="../slideLayouts/slideLayout267.xml"/><Relationship Id="rId8" Type="http://schemas.openxmlformats.org/officeDocument/2006/relationships/slideLayout" Target="../slideLayouts/slideLayout268.xml"/><Relationship Id="rId9" Type="http://schemas.openxmlformats.org/officeDocument/2006/relationships/slideLayout" Target="../slideLayouts/slideLayout269.xml"/><Relationship Id="rId10" Type="http://schemas.openxmlformats.org/officeDocument/2006/relationships/slideLayout" Target="../slideLayouts/slideLayout270.xml"/><Relationship Id="rId11" Type="http://schemas.openxmlformats.org/officeDocument/2006/relationships/slideLayout" Target="../slideLayouts/slideLayout271.xml"/><Relationship Id="rId12" Type="http://schemas.openxmlformats.org/officeDocument/2006/relationships/slideLayout" Target="../slideLayouts/slideLayout272.xml"/><Relationship Id="rId13" Type="http://schemas.openxmlformats.org/officeDocument/2006/relationships/slideLayout" Target="../slideLayouts/slideLayout273.xml"/><Relationship Id="rId14" Type="http://schemas.openxmlformats.org/officeDocument/2006/relationships/slideLayout" Target="../slideLayouts/slideLayout274.xml"/><Relationship Id="rId15" Type="http://schemas.openxmlformats.org/officeDocument/2006/relationships/slideLayout" Target="../slideLayouts/slideLayout275.xml"/><Relationship Id="rId16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77.xml"/><Relationship Id="rId6" Type="http://schemas.openxmlformats.org/officeDocument/2006/relationships/slideLayout" Target="../slideLayouts/slideLayout278.xml"/><Relationship Id="rId7" Type="http://schemas.openxmlformats.org/officeDocument/2006/relationships/slideLayout" Target="../slideLayouts/slideLayout279.xml"/><Relationship Id="rId8" Type="http://schemas.openxmlformats.org/officeDocument/2006/relationships/slideLayout" Target="../slideLayouts/slideLayout280.xml"/><Relationship Id="rId9" Type="http://schemas.openxmlformats.org/officeDocument/2006/relationships/slideLayout" Target="../slideLayouts/slideLayout281.xml"/><Relationship Id="rId10" Type="http://schemas.openxmlformats.org/officeDocument/2006/relationships/slideLayout" Target="../slideLayouts/slideLayout282.xml"/><Relationship Id="rId11" Type="http://schemas.openxmlformats.org/officeDocument/2006/relationships/slideLayout" Target="../slideLayouts/slideLayout283.xml"/><Relationship Id="rId12" Type="http://schemas.openxmlformats.org/officeDocument/2006/relationships/slideLayout" Target="../slideLayouts/slideLayout284.xml"/><Relationship Id="rId13" Type="http://schemas.openxmlformats.org/officeDocument/2006/relationships/slideLayout" Target="../slideLayouts/slideLayout285.xml"/><Relationship Id="rId14" Type="http://schemas.openxmlformats.org/officeDocument/2006/relationships/slideLayout" Target="../slideLayouts/slideLayout286.xml"/><Relationship Id="rId15" Type="http://schemas.openxmlformats.org/officeDocument/2006/relationships/slideLayout" Target="../slideLayouts/slideLayout287.xml"/><Relationship Id="rId16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89.xml"/><Relationship Id="rId6" Type="http://schemas.openxmlformats.org/officeDocument/2006/relationships/slideLayout" Target="../slideLayouts/slideLayout290.xml"/><Relationship Id="rId7" Type="http://schemas.openxmlformats.org/officeDocument/2006/relationships/slideLayout" Target="../slideLayouts/slideLayout291.xml"/><Relationship Id="rId8" Type="http://schemas.openxmlformats.org/officeDocument/2006/relationships/slideLayout" Target="../slideLayouts/slideLayout292.xml"/><Relationship Id="rId9" Type="http://schemas.openxmlformats.org/officeDocument/2006/relationships/slideLayout" Target="../slideLayouts/slideLayout293.xml"/><Relationship Id="rId10" Type="http://schemas.openxmlformats.org/officeDocument/2006/relationships/slideLayout" Target="../slideLayouts/slideLayout294.xml"/><Relationship Id="rId11" Type="http://schemas.openxmlformats.org/officeDocument/2006/relationships/slideLayout" Target="../slideLayouts/slideLayout295.xml"/><Relationship Id="rId12" Type="http://schemas.openxmlformats.org/officeDocument/2006/relationships/slideLayout" Target="../slideLayouts/slideLayout296.xml"/><Relationship Id="rId13" Type="http://schemas.openxmlformats.org/officeDocument/2006/relationships/slideLayout" Target="../slideLayouts/slideLayout297.xml"/><Relationship Id="rId14" Type="http://schemas.openxmlformats.org/officeDocument/2006/relationships/slideLayout" Target="../slideLayouts/slideLayout298.xml"/><Relationship Id="rId15" Type="http://schemas.openxmlformats.org/officeDocument/2006/relationships/slideLayout" Target="../slideLayouts/slideLayout299.xml"/><Relationship Id="rId16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01.xml"/><Relationship Id="rId6" Type="http://schemas.openxmlformats.org/officeDocument/2006/relationships/slideLayout" Target="../slideLayouts/slideLayout302.xml"/><Relationship Id="rId7" Type="http://schemas.openxmlformats.org/officeDocument/2006/relationships/slideLayout" Target="../slideLayouts/slideLayout303.xml"/><Relationship Id="rId8" Type="http://schemas.openxmlformats.org/officeDocument/2006/relationships/slideLayout" Target="../slideLayouts/slideLayout304.xml"/><Relationship Id="rId9" Type="http://schemas.openxmlformats.org/officeDocument/2006/relationships/slideLayout" Target="../slideLayouts/slideLayout305.xml"/><Relationship Id="rId10" Type="http://schemas.openxmlformats.org/officeDocument/2006/relationships/slideLayout" Target="../slideLayouts/slideLayout306.xml"/><Relationship Id="rId11" Type="http://schemas.openxmlformats.org/officeDocument/2006/relationships/slideLayout" Target="../slideLayouts/slideLayout307.xml"/><Relationship Id="rId12" Type="http://schemas.openxmlformats.org/officeDocument/2006/relationships/slideLayout" Target="../slideLayouts/slideLayout308.xml"/><Relationship Id="rId13" Type="http://schemas.openxmlformats.org/officeDocument/2006/relationships/slideLayout" Target="../slideLayouts/slideLayout309.xml"/><Relationship Id="rId14" Type="http://schemas.openxmlformats.org/officeDocument/2006/relationships/slideLayout" Target="../slideLayouts/slideLayout310.xml"/><Relationship Id="rId15" Type="http://schemas.openxmlformats.org/officeDocument/2006/relationships/slideLayout" Target="../slideLayouts/slideLayout311.xml"/><Relationship Id="rId16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2109C79-E9BA-466B-B8E4-C90DB015474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sldNum" idx="1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154BB7E-AA3F-44F4-88CA-92794729359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23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sldNum" idx="1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7B6668-FFF7-475E-B2B5-DF1B422F064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65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sldNum" idx="1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0C6964-1D23-418F-99B9-34B9C664D49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07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sldNum" idx="1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2D9EC5-DEAE-4272-8743-40ACC648D04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sldNum" idx="1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94BC60-8125-4971-A763-639FFA279AB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92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3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sldNum" idx="1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636FDB-D098-4CFD-A87D-970E77B22E0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35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 type="sldNum" idx="1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6E77CF3-9565-468B-BEC4-B5702D82B84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78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9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sldNum" idx="1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C590CB-6E7C-4E44-B372-A46DA8F52C8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21" name="Rectangle 6"/>
          <p:cNvSpPr/>
          <p:nvPr/>
        </p:nvSpPr>
        <p:spPr>
          <a:xfrm>
            <a:off x="249120" y="269568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Rectangle 9"/>
          <p:cNvSpPr/>
          <p:nvPr/>
        </p:nvSpPr>
        <p:spPr>
          <a:xfrm>
            <a:off x="247680" y="895320"/>
            <a:ext cx="864072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 type="sldNum" idx="1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C335CBB-B596-4F34-A2AC-900938036EF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6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sldNum" idx="1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64D7AD-88D0-4971-A844-C5FE026A614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4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BF86DAF-807E-44A0-AE46-E6F8EAA2AEE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09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 type="sldNum" idx="2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4C1CB5C-1208-427E-ADAD-360D505A449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5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5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 type="sldNum" idx="2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1E237B4-04E4-4395-B712-46D9C523483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5"/>
    <p:sldLayoutId id="2147483910" r:id="rId6"/>
    <p:sldLayoutId id="2147483911" r:id="rId7"/>
    <p:sldLayoutId id="2147483912" r:id="rId8"/>
    <p:sldLayoutId id="2147483913" r:id="rId9"/>
    <p:sldLayoutId id="2147483914" r:id="rId10"/>
    <p:sldLayoutId id="2147483915" r:id="rId11"/>
    <p:sldLayoutId id="2147483916" r:id="rId12"/>
    <p:sldLayoutId id="2147483917" r:id="rId13"/>
    <p:sldLayoutId id="2147483918" r:id="rId14"/>
    <p:sldLayoutId id="2147483919" r:id="rId15"/>
    <p:sldLayoutId id="2147483920" r:id="rId16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9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 type="sldNum" idx="2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558FB2-E771-4C3A-BB7F-2B2D5487EB1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5"/>
    <p:sldLayoutId id="2147483923" r:id="rId6"/>
    <p:sldLayoutId id="2147483924" r:id="rId7"/>
    <p:sldLayoutId id="2147483925" r:id="rId8"/>
    <p:sldLayoutId id="2147483926" r:id="rId9"/>
    <p:sldLayoutId id="2147483927" r:id="rId10"/>
    <p:sldLayoutId id="2147483928" r:id="rId11"/>
    <p:sldLayoutId id="2147483929" r:id="rId12"/>
    <p:sldLayoutId id="2147483930" r:id="rId13"/>
    <p:sldLayoutId id="2147483931" r:id="rId14"/>
    <p:sldLayoutId id="2147483932" r:id="rId15"/>
    <p:sldLayoutId id="2147483933" r:id="rId16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 type="sldNum" idx="2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6366E8-7432-428E-8E30-E81B463FBC5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5"/>
    <p:sldLayoutId id="2147483936" r:id="rId6"/>
    <p:sldLayoutId id="2147483937" r:id="rId7"/>
    <p:sldLayoutId id="2147483938" r:id="rId8"/>
    <p:sldLayoutId id="2147483939" r:id="rId9"/>
    <p:sldLayoutId id="2147483940" r:id="rId10"/>
    <p:sldLayoutId id="2147483941" r:id="rId11"/>
    <p:sldLayoutId id="2147483942" r:id="rId12"/>
    <p:sldLayoutId id="2147483943" r:id="rId13"/>
    <p:sldLayoutId id="2147483944" r:id="rId14"/>
    <p:sldLayoutId id="2147483945" r:id="rId15"/>
    <p:sldLayoutId id="2147483946" r:id="rId16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 type="sldNum" idx="2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C694DB-02DE-4A21-8D21-ACD3FFD5D18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5"/>
    <p:sldLayoutId id="2147483949" r:id="rId6"/>
    <p:sldLayoutId id="2147483950" r:id="rId7"/>
    <p:sldLayoutId id="2147483951" r:id="rId8"/>
    <p:sldLayoutId id="2147483952" r:id="rId9"/>
    <p:sldLayoutId id="2147483953" r:id="rId10"/>
    <p:sldLayoutId id="2147483954" r:id="rId11"/>
    <p:sldLayoutId id="2147483955" r:id="rId12"/>
    <p:sldLayoutId id="2147483956" r:id="rId13"/>
    <p:sldLayoutId id="2147483957" r:id="rId14"/>
    <p:sldLayoutId id="2147483958" r:id="rId15"/>
    <p:sldLayoutId id="2147483959" r:id="rId16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23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4" name="Rectangle 8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sldNum" idx="2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8C6B9BB-F33F-4BF0-BABC-D7699F46E3E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5"/>
    <p:sldLayoutId id="2147483962" r:id="rId6"/>
    <p:sldLayoutId id="2147483963" r:id="rId7"/>
    <p:sldLayoutId id="2147483964" r:id="rId8"/>
    <p:sldLayoutId id="2147483965" r:id="rId9"/>
    <p:sldLayoutId id="2147483966" r:id="rId10"/>
    <p:sldLayoutId id="2147483967" r:id="rId11"/>
    <p:sldLayoutId id="2147483968" r:id="rId12"/>
    <p:sldLayoutId id="2147483969" r:id="rId13"/>
    <p:sldLayoutId id="2147483970" r:id="rId14"/>
    <p:sldLayoutId id="2147483971" r:id="rId15"/>
    <p:sldLayoutId id="2147483972" r:id="rId16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66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 type="sldNum" idx="2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4B6A82D-BC0E-4D69-9205-87E76BF4EB6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5"/>
    <p:sldLayoutId id="2147483975" r:id="rId6"/>
    <p:sldLayoutId id="2147483976" r:id="rId7"/>
    <p:sldLayoutId id="2147483977" r:id="rId8"/>
    <p:sldLayoutId id="2147483978" r:id="rId9"/>
    <p:sldLayoutId id="2147483979" r:id="rId10"/>
    <p:sldLayoutId id="2147483980" r:id="rId11"/>
    <p:sldLayoutId id="2147483981" r:id="rId12"/>
    <p:sldLayoutId id="2147483982" r:id="rId13"/>
    <p:sldLayoutId id="2147483983" r:id="rId14"/>
    <p:sldLayoutId id="2147483984" r:id="rId15"/>
    <p:sldLayoutId id="2147483985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B1D8B92-F5BC-4239-90C3-824C93C143B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1AA4376-6F74-4607-A400-3C25559E67B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ADB8458-D342-4B89-92F6-A3CBB1C0770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0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Num" idx="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240BDB-B38D-44E2-8D63-2030BF39131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3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9C64C7F-7AB9-4F9A-953C-FC88074A8DD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6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sldNum" idx="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EE70101-6D30-4F38-BA95-50097677745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sldNum" idx="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9F188D-F344-4770-B7DE-D5B71C24637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27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9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277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0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25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2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3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328760"/>
          </a:xfrm>
          <a:prstGeom prst="rect">
            <a:avLst/>
          </a:prstGeom>
          <a:ln w="0">
            <a:noFill/>
          </a:ln>
        </p:spPr>
      </p:pic>
      <p:sp>
        <p:nvSpPr>
          <p:cNvPr id="111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0F81E36-2681-41E7-824A-D51C4F42395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5" name="PlaceHolder 1"/>
          <p:cNvSpPr>
            <a:spLocks noGrp="1"/>
          </p:cNvSpPr>
          <p:nvPr>
            <p:ph/>
          </p:nvPr>
        </p:nvSpPr>
        <p:spPr>
          <a:xfrm>
            <a:off x="429840" y="1450440"/>
            <a:ext cx="8386920" cy="40356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Brian 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29840" y="1800000"/>
            <a:ext cx="8386920" cy="40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lfresco Product Architec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29840" y="2263680"/>
            <a:ext cx="8386920" cy="457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 fontScale="75000"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7AE67B-31F7-4875-A559-061C4B6FE40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corresponding data list for feedback (auto-created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New entries are periodically processed – each type of feedback can have its own handler defin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mmen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mmen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ntac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ntact Reques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1" name="TextBox 6"/>
          <p:cNvSpPr/>
          <p:nvPr/>
        </p:nvSpPr>
        <p:spPr>
          <a:xfrm>
            <a:off x="249120" y="5113440"/>
            <a:ext cx="863928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8585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bean id=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"commentFeedbackProcessorHandler" 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parent="feedbackProcessorHandler"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       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class="org.alfresco.module.org_alfresco_module_wcmquickstart.jobs.feedback.CommentFeedbackProcessorHandler"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&lt;property name=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"feedbackType" value="Comment"  /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/bean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2" name="Picture 2" descr="C:\Users\Brian\Documents\alfresco\cheetah\wcmqs-devguide\feedback-processor.png"/>
          <p:cNvPicPr/>
          <p:nvPr/>
        </p:nvPicPr>
        <p:blipFill>
          <a:blip r:embed="rId2"/>
          <a:stretch/>
        </p:blipFill>
        <p:spPr>
          <a:xfrm>
            <a:off x="4730760" y="1189080"/>
            <a:ext cx="404028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2A5AE32-B34B-43C5-8381-83FB847D8FD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5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publishing queu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WQS has a PublishService that processes the queu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actions defined: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Tree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and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”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workflows defined that use the action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Queues are published periodically – every minute by default (override with property </a:t>
            </a: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wcmqs.publishQueueProcessor.schedule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node may specify another website node that it publishes 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6" name="Straight Connector 5"/>
          <p:cNvSpPr/>
          <p:nvPr/>
        </p:nvSpPr>
        <p:spPr>
          <a:xfrm>
            <a:off x="8888400" y="2814480"/>
            <a:ext cx="0" cy="3121200"/>
          </a:xfrm>
          <a:prstGeom prst="line">
            <a:avLst/>
          </a:prstGeom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7" name="Picture 3" descr=""/>
          <p:cNvPicPr/>
          <p:nvPr/>
        </p:nvPicPr>
        <p:blipFill>
          <a:blip r:embed="rId2"/>
          <a:stretch/>
        </p:blipFill>
        <p:spPr>
          <a:xfrm>
            <a:off x="3021120" y="4497480"/>
            <a:ext cx="140976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8" name="Title 6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81EB6E5-F22F-4A19-B1AC-564FF255F6E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Override map of available ACP files using a bean named 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i="1" lang="en-GB" sz="1600" spc="-1" strike="noStrike">
                <a:solidFill>
                  <a:srgbClr val="333333"/>
                </a:solidFill>
                <a:latin typeface="Courier New"/>
              </a:rPr>
              <a:t>wqsmodule_siteImportFileLocations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171" name="Picture 2" descr=""/>
          <p:cNvPicPr/>
          <p:nvPr/>
        </p:nvPicPr>
        <p:blipFill>
          <a:blip r:embed="rId2"/>
          <a:stretch/>
        </p:blipFill>
        <p:spPr>
          <a:xfrm>
            <a:off x="339840" y="3105000"/>
            <a:ext cx="6056280" cy="14018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2" name="Picture 3" descr=""/>
          <p:cNvPicPr/>
          <p:nvPr/>
        </p:nvPicPr>
        <p:blipFill>
          <a:blip r:embed="rId3"/>
          <a:stretch/>
        </p:blipFill>
        <p:spPr>
          <a:xfrm>
            <a:off x="4016520" y="1906560"/>
            <a:ext cx="4695840" cy="885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3" name="Picture 4" descr=""/>
          <p:cNvPicPr/>
          <p:nvPr/>
        </p:nvPicPr>
        <p:blipFill>
          <a:blip r:embed="rId4"/>
          <a:stretch/>
        </p:blipFill>
        <p:spPr>
          <a:xfrm>
            <a:off x="771480" y="4935600"/>
            <a:ext cx="7581960" cy="604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E663497-AEEE-4BBC-AA1B-8FAA8ECC205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176" name="Group 1039"/>
          <p:cNvGrpSpPr/>
          <p:nvPr/>
        </p:nvGrpSpPr>
        <p:grpSpPr>
          <a:xfrm>
            <a:off x="3328920" y="1265400"/>
            <a:ext cx="1851120" cy="3873240"/>
            <a:chOff x="3328920" y="1265400"/>
            <a:chExt cx="1851120" cy="3873240"/>
          </a:xfrm>
        </p:grpSpPr>
        <p:grpSp>
          <p:nvGrpSpPr>
            <p:cNvPr id="1177" name="Rounded Rectangle 20"/>
            <p:cNvGrpSpPr/>
            <p:nvPr/>
          </p:nvGrpSpPr>
          <p:grpSpPr>
            <a:xfrm>
              <a:off x="3328920" y="2755800"/>
              <a:ext cx="1851120" cy="737280"/>
              <a:chOff x="3328920" y="2755800"/>
              <a:chExt cx="1851120" cy="737280"/>
            </a:xfrm>
          </p:grpSpPr>
          <p:pic>
            <p:nvPicPr>
              <p:cNvPr id="1178" name="Rounded Rectangle 20" descr=""/>
              <p:cNvPicPr/>
              <p:nvPr/>
            </p:nvPicPr>
            <p:blipFill>
              <a:blip r:embed="rId2"/>
              <a:stretch/>
            </p:blipFill>
            <p:spPr>
              <a:xfrm>
                <a:off x="3328920" y="275580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9" name=""/>
              <p:cNvSpPr/>
              <p:nvPr/>
            </p:nvSpPr>
            <p:spPr>
              <a:xfrm>
                <a:off x="3438000" y="28839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GB" sz="1600" spc="-1" strike="noStrike">
                    <a:solidFill>
                      <a:srgbClr val="4a452a"/>
                    </a:solidFill>
                    <a:latin typeface="Arial"/>
                    <a:ea typeface="ヒラギノ角ゴ ProN W3"/>
                  </a:rPr>
                  <a:t>WQS API</a:t>
                </a:r>
                <a:endParaRPr b="0" lang="en-US" sz="1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80" name="Group 1023"/>
            <p:cNvGrpSpPr/>
            <p:nvPr/>
          </p:nvGrpSpPr>
          <p:grpSpPr>
            <a:xfrm>
              <a:off x="3406320" y="4329720"/>
              <a:ext cx="1541880" cy="808920"/>
              <a:chOff x="3406320" y="4329720"/>
              <a:chExt cx="1541880" cy="808920"/>
            </a:xfrm>
          </p:grpSpPr>
          <p:grpSp>
            <p:nvGrpSpPr>
              <p:cNvPr id="1181" name="Rounded Rectangle 25"/>
              <p:cNvGrpSpPr/>
              <p:nvPr/>
            </p:nvGrpSpPr>
            <p:grpSpPr>
              <a:xfrm>
                <a:off x="3406320" y="4329720"/>
                <a:ext cx="1541880" cy="808920"/>
                <a:chOff x="3406320" y="4329720"/>
                <a:chExt cx="1541880" cy="808920"/>
              </a:xfrm>
            </p:grpSpPr>
            <p:pic>
              <p:nvPicPr>
                <p:cNvPr id="1182" name="Rounded Rectangle 2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406320" y="4329720"/>
                  <a:ext cx="1541880" cy="808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3" name=""/>
                <p:cNvSpPr/>
                <p:nvPr/>
              </p:nvSpPr>
              <p:spPr>
                <a:xfrm>
                  <a:off x="3511440" y="4434840"/>
                  <a:ext cx="122904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4" name="Picture 5" descr="C:\Users\Brian\Documents\alfresco\devcon2010\alfresco-logo.gif"/>
              <p:cNvPicPr/>
              <p:nvPr/>
            </p:nvPicPr>
            <p:blipFill>
              <a:blip r:embed="rId4"/>
              <a:stretch/>
            </p:blipFill>
            <p:spPr>
              <a:xfrm>
                <a:off x="3544920" y="4523760"/>
                <a:ext cx="1161360" cy="332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85" name="Group 1033"/>
            <p:cNvGrpSpPr/>
            <p:nvPr/>
          </p:nvGrpSpPr>
          <p:grpSpPr>
            <a:xfrm>
              <a:off x="3421800" y="2336760"/>
              <a:ext cx="1541880" cy="395640"/>
              <a:chOff x="3421800" y="2336760"/>
              <a:chExt cx="1541880" cy="395640"/>
            </a:xfrm>
          </p:grpSpPr>
          <p:grpSp>
            <p:nvGrpSpPr>
              <p:cNvPr id="1186" name="Rounded Rectangle 6"/>
              <p:cNvGrpSpPr/>
              <p:nvPr/>
            </p:nvGrpSpPr>
            <p:grpSpPr>
              <a:xfrm>
                <a:off x="3421800" y="2336760"/>
                <a:ext cx="1541880" cy="395640"/>
                <a:chOff x="3421800" y="2336760"/>
                <a:chExt cx="1541880" cy="395640"/>
              </a:xfrm>
            </p:grpSpPr>
            <p:pic>
              <p:nvPicPr>
                <p:cNvPr id="1187" name="Rounded Rectangle 6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421800" y="233676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8" name=""/>
                <p:cNvSpPr/>
                <p:nvPr/>
              </p:nvSpPr>
              <p:spPr>
                <a:xfrm>
                  <a:off x="3512520" y="240660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9" name="Picture 6" descr="C:\Users\Brian\Documents\alfresco\devcon2010\springsource-logo.gif"/>
              <p:cNvPicPr/>
              <p:nvPr/>
            </p:nvPicPr>
            <p:blipFill>
              <a:blip r:embed="rId6"/>
              <a:stretch/>
            </p:blipFill>
            <p:spPr>
              <a:xfrm>
                <a:off x="3510000" y="2423520"/>
                <a:ext cx="1236960" cy="149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90" name="Rounded Rectangle 10"/>
            <p:cNvGrpSpPr/>
            <p:nvPr/>
          </p:nvGrpSpPr>
          <p:grpSpPr>
            <a:xfrm>
              <a:off x="3328920" y="1701360"/>
              <a:ext cx="1851120" cy="737280"/>
              <a:chOff x="3328920" y="1701360"/>
              <a:chExt cx="1851120" cy="737280"/>
            </a:xfrm>
          </p:grpSpPr>
          <p:pic>
            <p:nvPicPr>
              <p:cNvPr id="1191" name="Rounded Rectangle 10" descr=""/>
              <p:cNvPicPr/>
              <p:nvPr/>
            </p:nvPicPr>
            <p:blipFill>
              <a:blip r:embed="rId7"/>
              <a:stretch/>
            </p:blipFill>
            <p:spPr>
              <a:xfrm>
                <a:off x="3328920" y="170136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2" name=""/>
              <p:cNvSpPr/>
              <p:nvPr/>
            </p:nvSpPr>
            <p:spPr>
              <a:xfrm>
                <a:off x="3438000" y="18327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93" name="Group 1024"/>
            <p:cNvGrpSpPr/>
            <p:nvPr/>
          </p:nvGrpSpPr>
          <p:grpSpPr>
            <a:xfrm>
              <a:off x="3421800" y="1265400"/>
              <a:ext cx="1541880" cy="395640"/>
              <a:chOff x="3421800" y="1265400"/>
              <a:chExt cx="1541880" cy="395640"/>
            </a:xfrm>
          </p:grpSpPr>
          <p:grpSp>
            <p:nvGrpSpPr>
              <p:cNvPr id="1194" name="Rounded Rectangle 14"/>
              <p:cNvGrpSpPr/>
              <p:nvPr/>
            </p:nvGrpSpPr>
            <p:grpSpPr>
              <a:xfrm>
                <a:off x="3421800" y="1265400"/>
                <a:ext cx="1541880" cy="395640"/>
                <a:chOff x="3421800" y="1265400"/>
                <a:chExt cx="1541880" cy="395640"/>
              </a:xfrm>
            </p:grpSpPr>
            <p:pic>
              <p:nvPicPr>
                <p:cNvPr id="1195" name="Rounded Rectangle 1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3421800" y="126540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6" name=""/>
                <p:cNvSpPr/>
                <p:nvPr/>
              </p:nvSpPr>
              <p:spPr>
                <a:xfrm>
                  <a:off x="3512520" y="133596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97" name="Picture 8" descr="C:\Users\Brian\Documents\alfresco\devcon2010\freemarker-logo.gif"/>
              <p:cNvPicPr/>
              <p:nvPr/>
            </p:nvPicPr>
            <p:blipFill>
              <a:blip r:embed="rId9"/>
              <a:stretch/>
            </p:blipFill>
            <p:spPr>
              <a:xfrm>
                <a:off x="3695040" y="1383480"/>
                <a:ext cx="866880" cy="964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98" name="Down Arrow 30"/>
            <p:cNvSpPr/>
            <p:nvPr/>
          </p:nvSpPr>
          <p:spPr>
            <a:xfrm>
              <a:off x="3971880" y="3534840"/>
              <a:ext cx="441360" cy="631800"/>
            </a:xfrm>
            <a:prstGeom prst="downArrow">
              <a:avLst>
                <a:gd name="adj1" fmla="val 50000"/>
                <a:gd name="adj2" fmla="val 59420"/>
              </a:avLst>
            </a:prstGeom>
            <a:gradFill rotWithShape="0">
              <a:gsLst>
                <a:gs pos="0">
                  <a:srgbClr val="0085e0"/>
                </a:gs>
                <a:gs pos="100000">
                  <a:srgbClr val="89c2ff"/>
                </a:gs>
              </a:gsLst>
              <a:lin ang="16200000"/>
            </a:gradFill>
            <a:ln w="9360">
              <a:solidFill>
                <a:srgbClr val="007bc3"/>
              </a:solidFill>
              <a:miter/>
            </a:ln>
            <a:effectLst>
              <a:outerShdw dist="63639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199" name="Picture 9" descr="C:\Users\Brian\Documents\alfresco\devcon2010\surf-logo.gif"/>
            <p:cNvPicPr/>
            <p:nvPr/>
          </p:nvPicPr>
          <p:blipFill>
            <a:blip r:embed="rId10"/>
            <a:stretch/>
          </p:blipFill>
          <p:spPr>
            <a:xfrm>
              <a:off x="3842280" y="1848600"/>
              <a:ext cx="669600" cy="323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0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8E21604-B85C-43DA-AB66-D046EA5EA7B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Bean “webSiteService” is a good starting point: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grpSp>
        <p:nvGrpSpPr>
          <p:cNvPr id="1203" name="Group 17"/>
          <p:cNvGrpSpPr/>
          <p:nvPr/>
        </p:nvGrpSpPr>
        <p:grpSpPr>
          <a:xfrm>
            <a:off x="5148360" y="1003320"/>
            <a:ext cx="3678120" cy="2128680"/>
            <a:chOff x="5148360" y="1003320"/>
            <a:chExt cx="3678120" cy="2128680"/>
          </a:xfrm>
        </p:grpSpPr>
        <p:pic>
          <p:nvPicPr>
            <p:cNvPr id="1204" name="Picture 5" descr="C:\Users\Brian\Documents\alfresco\cheetah\wcmqs-devguide\wcmqs-basic-model-cropped.png"/>
            <p:cNvPicPr/>
            <p:nvPr/>
          </p:nvPicPr>
          <p:blipFill>
            <a:blip r:embed="rId2"/>
            <a:stretch/>
          </p:blipFill>
          <p:spPr>
            <a:xfrm>
              <a:off x="5148360" y="1003320"/>
              <a:ext cx="3678120" cy="21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5" name="Rectangle 12"/>
            <p:cNvSpPr/>
            <p:nvPr/>
          </p:nvSpPr>
          <p:spPr>
            <a:xfrm>
              <a:off x="563292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6" name="Rectangle 15"/>
            <p:cNvSpPr/>
            <p:nvPr/>
          </p:nvSpPr>
          <p:spPr>
            <a:xfrm>
              <a:off x="725868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7" name="Rectangle 16"/>
            <p:cNvSpPr/>
            <p:nvPr/>
          </p:nvSpPr>
          <p:spPr>
            <a:xfrm>
              <a:off x="6584040" y="2335320"/>
              <a:ext cx="509400" cy="16812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pic>
        <p:nvPicPr>
          <p:cNvPr id="1208" name="Picture 2" descr=""/>
          <p:cNvPicPr/>
          <p:nvPr/>
        </p:nvPicPr>
        <p:blipFill>
          <a:blip r:embed="rId3"/>
          <a:stretch/>
        </p:blipFill>
        <p:spPr>
          <a:xfrm>
            <a:off x="247680" y="3294000"/>
            <a:ext cx="8648640" cy="2641680"/>
          </a:xfrm>
          <a:prstGeom prst="rect">
            <a:avLst/>
          </a:prstGeom>
          <a:ln w="9360">
            <a:solidFill>
              <a:srgbClr val="adada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9" name="Title 1" descr=""/>
          <p:cNvPicPr/>
          <p:nvPr/>
        </p:nvPicPr>
        <p:blipFill>
          <a:blip r:embed="rId1"/>
          <a:stretch/>
        </p:blipFill>
        <p:spPr>
          <a:xfrm>
            <a:off x="0" y="23760"/>
            <a:ext cx="8888400" cy="860400"/>
          </a:xfrm>
          <a:prstGeom prst="rect">
            <a:avLst/>
          </a:prstGeom>
          <a:ln w="0">
            <a:noFill/>
          </a:ln>
        </p:spPr>
      </p:pic>
      <p:sp>
        <p:nvSpPr>
          <p:cNvPr id="121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F4CF9C0-EE60-40B8-B041-0EE932358DC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1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2" name="Rectangle 4"/>
          <p:cNvSpPr/>
          <p:nvPr/>
        </p:nvSpPr>
        <p:spPr>
          <a:xfrm>
            <a:off x="4381560" y="3979800"/>
            <a:ext cx="388800" cy="19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13" name="Picture 3" descr=""/>
          <p:cNvPicPr/>
          <p:nvPr/>
        </p:nvPicPr>
        <p:blipFill>
          <a:blip r:embed="rId2"/>
          <a:stretch/>
        </p:blipFill>
        <p:spPr>
          <a:xfrm>
            <a:off x="272880" y="923760"/>
            <a:ext cx="8493120" cy="3681720"/>
          </a:xfrm>
          <a:prstGeom prst="rect">
            <a:avLst/>
          </a:prstGeom>
          <a:ln w="0">
            <a:noFill/>
          </a:ln>
        </p:spPr>
      </p:pic>
      <p:pic>
        <p:nvPicPr>
          <p:cNvPr id="1214" name="Group 3" descr=""/>
          <p:cNvPicPr/>
          <p:nvPr/>
        </p:nvPicPr>
        <p:blipFill>
          <a:blip r:embed="rId3"/>
          <a:stretch/>
        </p:blipFill>
        <p:spPr>
          <a:xfrm>
            <a:off x="2382840" y="4224240"/>
            <a:ext cx="41940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1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4932F3-30F7-40ED-92F4-E6F6A500DBD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7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Friendly” URLs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quested URL is parsed to find the website, section, and asset that are being address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ww.example.com/news/global/financial_outlook_goo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solved API objects are stored on the request context with the names “website”, “section”, and “asset” for use by page components.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8" name="Straight Connector 10"/>
          <p:cNvSpPr/>
          <p:nvPr/>
        </p:nvSpPr>
        <p:spPr>
          <a:xfrm>
            <a:off x="977760" y="3179880"/>
            <a:ext cx="2497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9" name="Straight Connector 12"/>
          <p:cNvSpPr/>
          <p:nvPr/>
        </p:nvSpPr>
        <p:spPr>
          <a:xfrm>
            <a:off x="3475080" y="3602160"/>
            <a:ext cx="178920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0" name="Straight Connector 15"/>
          <p:cNvSpPr/>
          <p:nvPr/>
        </p:nvSpPr>
        <p:spPr>
          <a:xfrm>
            <a:off x="5264280" y="3179880"/>
            <a:ext cx="3100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1" name="Straight Connector 17"/>
          <p:cNvSpPr/>
          <p:nvPr/>
        </p:nvSpPr>
        <p:spPr>
          <a:xfrm>
            <a:off x="22255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2" name="Straight Connector 19"/>
          <p:cNvSpPr/>
          <p:nvPr/>
        </p:nvSpPr>
        <p:spPr>
          <a:xfrm>
            <a:off x="68137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3" name="Straight Connector 21"/>
          <p:cNvSpPr/>
          <p:nvPr/>
        </p:nvSpPr>
        <p:spPr>
          <a:xfrm>
            <a:off x="4368960" y="3602160"/>
            <a:ext cx="0" cy="17460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4" name="TextBox 25"/>
          <p:cNvSpPr/>
          <p:nvPr/>
        </p:nvSpPr>
        <p:spPr>
          <a:xfrm>
            <a:off x="1786320" y="2735280"/>
            <a:ext cx="86940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websi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5" name="TextBox 26"/>
          <p:cNvSpPr/>
          <p:nvPr/>
        </p:nvSpPr>
        <p:spPr>
          <a:xfrm>
            <a:off x="3934440" y="3730680"/>
            <a:ext cx="82548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sectio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6" name="TextBox 27"/>
          <p:cNvSpPr/>
          <p:nvPr/>
        </p:nvSpPr>
        <p:spPr>
          <a:xfrm>
            <a:off x="6465240" y="2743200"/>
            <a:ext cx="66672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333333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asset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2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094981-AE2A-4C90-993A-C416EE351CA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ired in to respond whenever an asset has been resolv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Discovers the page name to be used to render the asse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Each section may define template mappings from asset type to view name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Searches up the type hierarchy first, then the section hierarchy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3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231" name="Picture 3" descr=""/>
          <p:cNvPicPr/>
          <p:nvPr/>
        </p:nvPicPr>
        <p:blipFill>
          <a:blip r:embed="rId2"/>
          <a:stretch/>
        </p:blipFill>
        <p:spPr>
          <a:xfrm>
            <a:off x="4695840" y="1301760"/>
            <a:ext cx="4132080" cy="3780000"/>
          </a:xfrm>
          <a:prstGeom prst="rect">
            <a:avLst/>
          </a:prstGeom>
          <a:ln w="0">
            <a:noFill/>
          </a:ln>
        </p:spPr>
      </p:pic>
      <p:sp>
        <p:nvSpPr>
          <p:cNvPr id="1232" name="Rectangle 6"/>
          <p:cNvSpPr/>
          <p:nvPr/>
        </p:nvSpPr>
        <p:spPr>
          <a:xfrm>
            <a:off x="4786200" y="3379680"/>
            <a:ext cx="3197160" cy="658800"/>
          </a:xfrm>
          <a:prstGeom prst="rect">
            <a:avLst/>
          </a:prstGeom>
          <a:noFill/>
          <a:ln w="15840">
            <a:solidFill>
              <a:srgbClr val="38ff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3" name="Picture 4" descr=""/>
          <p:cNvPicPr/>
          <p:nvPr/>
        </p:nvPicPr>
        <p:blipFill>
          <a:blip r:embed="rId3"/>
          <a:stretch/>
        </p:blipFill>
        <p:spPr>
          <a:xfrm>
            <a:off x="4813200" y="3409920"/>
            <a:ext cx="310680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C8A53B5-012A-4EA7-B9AB-B027F9772E3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6" name="Picture 5" descr="C:\Users\Brian\Documents\alfresco\cheetah\wcmqs-devguide\wqs-webapp-sequence1.png"/>
          <p:cNvPicPr/>
          <p:nvPr/>
        </p:nvPicPr>
        <p:blipFill>
          <a:blip r:embed="rId2"/>
          <a:stretch/>
        </p:blipFill>
        <p:spPr>
          <a:xfrm>
            <a:off x="0" y="954000"/>
            <a:ext cx="9144000" cy="48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F23286-6F9D-47C7-8621-D7D56F57264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9" name="Picture 5" descr=""/>
          <p:cNvPicPr/>
          <p:nvPr/>
        </p:nvPicPr>
        <p:blipFill>
          <a:blip r:embed="rId2"/>
          <a:stretch/>
        </p:blipFill>
        <p:spPr>
          <a:xfrm>
            <a:off x="760320" y="1089000"/>
            <a:ext cx="1428840" cy="174312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1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E654FBE-8CAD-4C10-BB38-C0CF2DB3E7C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0" name="PlaceHolder 1"/>
          <p:cNvSpPr>
            <a:spLocks noGrp="1"/>
          </p:cNvSpPr>
          <p:nvPr>
            <p:ph/>
          </p:nvPr>
        </p:nvSpPr>
        <p:spPr>
          <a:xfrm>
            <a:off x="249120" y="1460160"/>
            <a:ext cx="8639280" cy="44751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 demonstr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 Web Quick Start mod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features in the repository ti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sample web applic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rimary goal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49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o show you how Web Quick Start works so you can start to use it and extend i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249120" y="894960"/>
            <a:ext cx="8639280" cy="53820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7dc3"/>
                </a:solidFill>
                <a:latin typeface="Arial"/>
              </a:rPr>
              <a:t>What we’ll cov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2CF065-B1BB-4587-87A2-2638A13C643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2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3" name="Picture 7" descr=""/>
          <p:cNvPicPr/>
          <p:nvPr/>
        </p:nvPicPr>
        <p:blipFill>
          <a:blip r:embed="rId3"/>
          <a:stretch/>
        </p:blipFill>
        <p:spPr>
          <a:xfrm>
            <a:off x="687240" y="955800"/>
            <a:ext cx="171468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44" name="TextBox 3"/>
          <p:cNvSpPr/>
          <p:nvPr/>
        </p:nvSpPr>
        <p:spPr>
          <a:xfrm>
            <a:off x="3131640" y="144792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ink of “templates” as layouts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with holes cut out (“regions”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109ED5-99FB-47CD-B171-6BA659C5E8C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7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8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9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0" name="TextBox 3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1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5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EC1FE0-51A3-42B9-AA0D-211D4C2C9CD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53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4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5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6" name="Picture 9" descr=""/>
          <p:cNvPicPr/>
          <p:nvPr/>
        </p:nvPicPr>
        <p:blipFill>
          <a:blip r:embed="rId5"/>
          <a:stretch/>
        </p:blipFill>
        <p:spPr>
          <a:xfrm>
            <a:off x="833400" y="1816200"/>
            <a:ext cx="1914480" cy="1428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7" name="TextBox 3"/>
          <p:cNvSpPr/>
          <p:nvPr/>
        </p:nvSpPr>
        <p:spPr>
          <a:xfrm>
            <a:off x="2643840" y="3648240"/>
            <a:ext cx="30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or example, there are tw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that ren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rticle details: “article/style1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nd “article/style2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8" name="TextBox 9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E62FB4-0ECF-406B-9929-985244839A8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1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2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3" name="Picture 8" descr=""/>
          <p:cNvPicPr/>
          <p:nvPr/>
        </p:nvPicPr>
        <p:blipFill>
          <a:blip r:embed="rId4"/>
          <a:stretch/>
        </p:blipFill>
        <p:spPr>
          <a:xfrm>
            <a:off x="3892680" y="2481120"/>
            <a:ext cx="1638000" cy="38102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4" name="Picture 9" descr=""/>
          <p:cNvPicPr/>
          <p:nvPr/>
        </p:nvPicPr>
        <p:blipFill>
          <a:blip r:embed="rId5"/>
          <a:stretch/>
        </p:blipFill>
        <p:spPr>
          <a:xfrm>
            <a:off x="4092480" y="3341520"/>
            <a:ext cx="1914480" cy="14288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5" name="Picture 6" descr=""/>
          <p:cNvPicPr/>
          <p:nvPr/>
        </p:nvPicPr>
        <p:blipFill>
          <a:blip r:embed="rId6"/>
          <a:stretch/>
        </p:blipFill>
        <p:spPr>
          <a:xfrm>
            <a:off x="760320" y="1073160"/>
            <a:ext cx="1981440" cy="31431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66" name="TextBox 3"/>
          <p:cNvSpPr/>
          <p:nvPr/>
        </p:nvSpPr>
        <p:spPr>
          <a:xfrm>
            <a:off x="602280" y="4373640"/>
            <a:ext cx="2995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nally, pages weav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emplates and component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ogether: a page specifie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 template and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are to fill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regions in that templat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49D5A9-23BF-48BC-B658-422D8BC429D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9" name="Picture 2" descr=""/>
          <p:cNvPicPr/>
          <p:nvPr/>
        </p:nvPicPr>
        <p:blipFill>
          <a:blip r:embed="rId2"/>
          <a:stretch/>
        </p:blipFill>
        <p:spPr>
          <a:xfrm>
            <a:off x="1940040" y="762120"/>
            <a:ext cx="5010120" cy="54687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0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71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927495-61BE-4948-A75D-7186066BFF9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3" name="Rectangle 3"/>
          <p:cNvSpPr/>
          <p:nvPr/>
        </p:nvSpPr>
        <p:spPr>
          <a:xfrm>
            <a:off x="1860480" y="1208160"/>
            <a:ext cx="2886120" cy="1350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33C15F-9AB4-4D63-9852-826C4852966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76" name="Picture 4" descr=""/>
          <p:cNvPicPr/>
          <p:nvPr/>
        </p:nvPicPr>
        <p:blipFill>
          <a:blip r:embed="rId2"/>
          <a:stretch/>
        </p:blipFill>
        <p:spPr>
          <a:xfrm>
            <a:off x="1639800" y="779400"/>
            <a:ext cx="5291280" cy="58993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277" name="TextBox 6"/>
          <p:cNvSpPr/>
          <p:nvPr/>
        </p:nvSpPr>
        <p:spPr>
          <a:xfrm>
            <a:off x="130680" y="95724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ve-block.ftl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8" name="Rectangle 5"/>
          <p:cNvSpPr/>
          <p:nvPr/>
        </p:nvSpPr>
        <p:spPr>
          <a:xfrm>
            <a:off x="1860480" y="1444680"/>
            <a:ext cx="2425680" cy="2286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9" name="Rectangle 7"/>
          <p:cNvSpPr/>
          <p:nvPr/>
        </p:nvSpPr>
        <p:spPr>
          <a:xfrm>
            <a:off x="2013120" y="2085840"/>
            <a:ext cx="2116080" cy="6573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0" name="Rectangle 8"/>
          <p:cNvSpPr/>
          <p:nvPr/>
        </p:nvSpPr>
        <p:spPr>
          <a:xfrm>
            <a:off x="2471760" y="3200400"/>
            <a:ext cx="265284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1" name="Rectangle 9"/>
          <p:cNvSpPr/>
          <p:nvPr/>
        </p:nvSpPr>
        <p:spPr>
          <a:xfrm>
            <a:off x="2082960" y="5413320"/>
            <a:ext cx="2114280" cy="6429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2" name="Rectangle 10"/>
          <p:cNvSpPr/>
          <p:nvPr/>
        </p:nvSpPr>
        <p:spPr>
          <a:xfrm>
            <a:off x="2471760" y="4067280"/>
            <a:ext cx="277020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8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C1DEA9A-DA79-479D-B261-A897B616D62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85" name="Picture 2" descr=""/>
          <p:cNvPicPr/>
          <p:nvPr/>
        </p:nvPicPr>
        <p:blipFill>
          <a:blip r:embed="rId2"/>
          <a:stretch/>
        </p:blipFill>
        <p:spPr>
          <a:xfrm>
            <a:off x="1874880" y="781200"/>
            <a:ext cx="5010120" cy="54702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286" name="Rectangle 4"/>
          <p:cNvSpPr/>
          <p:nvPr/>
        </p:nvSpPr>
        <p:spPr>
          <a:xfrm>
            <a:off x="1990800" y="1344600"/>
            <a:ext cx="4770360" cy="14637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ellyband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7" name="Rectangle 8"/>
          <p:cNvSpPr/>
          <p:nvPr/>
        </p:nvSpPr>
        <p:spPr>
          <a:xfrm>
            <a:off x="1990800" y="2863800"/>
            <a:ext cx="3141720" cy="18813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8" name="Rectangle 9"/>
          <p:cNvSpPr/>
          <p:nvPr/>
        </p:nvSpPr>
        <p:spPr>
          <a:xfrm>
            <a:off x="5253120" y="2863800"/>
            <a:ext cx="1508040" cy="14558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righ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9" name="Rectangle 10"/>
          <p:cNvSpPr/>
          <p:nvPr/>
        </p:nvSpPr>
        <p:spPr>
          <a:xfrm>
            <a:off x="1990800" y="48531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0" name="Rectangle 11"/>
          <p:cNvSpPr/>
          <p:nvPr/>
        </p:nvSpPr>
        <p:spPr>
          <a:xfrm>
            <a:off x="3560760" y="4861080"/>
            <a:ext cx="157176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1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92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FC2AC9-8B0B-4426-83C9-45BFB0AD246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4" name="Rectangle 5"/>
          <p:cNvSpPr/>
          <p:nvPr/>
        </p:nvSpPr>
        <p:spPr>
          <a:xfrm>
            <a:off x="1982880" y="2449440"/>
            <a:ext cx="2636640" cy="843120"/>
          </a:xfrm>
          <a:prstGeom prst="rect">
            <a:avLst/>
          </a:prstGeom>
          <a:solidFill>
            <a:srgbClr val="ff0000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5" name="TextBox 3"/>
          <p:cNvSpPr/>
          <p:nvPr/>
        </p:nvSpPr>
        <p:spPr>
          <a:xfrm>
            <a:off x="4773960" y="2185920"/>
            <a:ext cx="22168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For example, the region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left1” is populated b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component “list/wide”.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is component accepts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 property named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collection” – in this case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value of that propert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is being set to “news.top”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6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7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BB4719-00D0-40D2-9924-2CFD8B699E8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8" name="Rectangle 10"/>
          <p:cNvSpPr/>
          <p:nvPr/>
        </p:nvSpPr>
        <p:spPr>
          <a:xfrm>
            <a:off x="2098800" y="48513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9" name="Rectangle 11"/>
          <p:cNvSpPr/>
          <p:nvPr/>
        </p:nvSpPr>
        <p:spPr>
          <a:xfrm>
            <a:off x="3670200" y="4859280"/>
            <a:ext cx="1569960" cy="10400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0" name="Picture 5" descr=""/>
          <p:cNvPicPr/>
          <p:nvPr/>
        </p:nvPicPr>
        <p:blipFill>
          <a:blip r:embed="rId2"/>
          <a:stretch/>
        </p:blipFill>
        <p:spPr>
          <a:xfrm>
            <a:off x="179280" y="936720"/>
            <a:ext cx="7467840" cy="1807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1" name="Picture 7" descr=""/>
          <p:cNvPicPr/>
          <p:nvPr/>
        </p:nvPicPr>
        <p:blipFill>
          <a:blip r:embed="rId3"/>
          <a:stretch/>
        </p:blipFill>
        <p:spPr>
          <a:xfrm>
            <a:off x="179280" y="1685880"/>
            <a:ext cx="8550360" cy="4389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302" name="TextBox 6"/>
          <p:cNvSpPr/>
          <p:nvPr/>
        </p:nvSpPr>
        <p:spPr>
          <a:xfrm>
            <a:off x="5497920" y="631800"/>
            <a:ext cx="218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js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3" name="TextBox 16"/>
          <p:cNvSpPr/>
          <p:nvPr/>
        </p:nvSpPr>
        <p:spPr>
          <a:xfrm>
            <a:off x="5121360" y="1384200"/>
            <a:ext cx="258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html.ftl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4" name="TextBox 3"/>
          <p:cNvSpPr/>
          <p:nvPr/>
        </p:nvSpPr>
        <p:spPr>
          <a:xfrm>
            <a:off x="4383360" y="2643120"/>
            <a:ext cx="4073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“list/wide” component loads the named asse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collection (“news.top” in this example), and then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renders information about each asset in tha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sset collec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2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285920"/>
          </a:xfrm>
          <a:prstGeom prst="rect">
            <a:avLst/>
          </a:prstGeom>
          <a:ln w="0">
            <a:noFill/>
          </a:ln>
        </p:spPr>
      </p:pic>
      <p:sp>
        <p:nvSpPr>
          <p:cNvPr id="112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B729FA4-9CFF-4DDF-B88C-8878FC8E602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/>
          </p:nvPr>
        </p:nvSpPr>
        <p:spPr>
          <a:xfrm>
            <a:off x="429840" y="1450800"/>
            <a:ext cx="8386920" cy="835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30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6F5BF1B-0D31-4340-A486-FFDF33E09F4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7" name="Picture 4" descr=""/>
          <p:cNvPicPr/>
          <p:nvPr/>
        </p:nvPicPr>
        <p:blipFill>
          <a:blip r:embed="rId2"/>
          <a:stretch/>
        </p:blipFill>
        <p:spPr>
          <a:xfrm>
            <a:off x="2476440" y="1028880"/>
            <a:ext cx="3895920" cy="43434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8" name="Picture 2" descr=""/>
          <p:cNvPicPr/>
          <p:nvPr/>
        </p:nvPicPr>
        <p:blipFill>
          <a:blip r:embed="rId3"/>
          <a:stretch/>
        </p:blipFill>
        <p:spPr>
          <a:xfrm>
            <a:off x="1982880" y="779400"/>
            <a:ext cx="5010120" cy="5470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309" name="Rectangle 8"/>
          <p:cNvSpPr/>
          <p:nvPr/>
        </p:nvSpPr>
        <p:spPr>
          <a:xfrm>
            <a:off x="2098800" y="2862360"/>
            <a:ext cx="3141360" cy="188100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0" name="Title 7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963720"/>
          </a:xfrm>
          <a:prstGeom prst="rect">
            <a:avLst/>
          </a:prstGeom>
          <a:ln w="0">
            <a:noFill/>
          </a:ln>
        </p:spPr>
      </p:pic>
      <p:sp>
        <p:nvSpPr>
          <p:cNvPr id="131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3CA5E02-0591-45EB-8B4E-71957BD904D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/>
          </p:nvPr>
        </p:nvSpPr>
        <p:spPr>
          <a:xfrm>
            <a:off x="429840" y="906120"/>
            <a:ext cx="8386920" cy="7714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 fontScale="68000"/>
          </a:bodyPr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iki.alfresco.com/wiki/Web_Quick_Star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forums.alfresco.com/en/viewforum.php?f=52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witter: @Alfresco, @brian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13" name="Picture 1" descr=""/>
          <p:cNvPicPr/>
          <p:nvPr/>
        </p:nvPicPr>
        <p:blipFill>
          <a:blip r:embed="rId2"/>
          <a:stretch/>
        </p:blipFill>
        <p:spPr>
          <a:xfrm>
            <a:off x="1106640" y="2089080"/>
            <a:ext cx="3966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2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49A145E-1537-4B03-B987-F8D116E948D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27" name="Picture 5" descr="C:\Users\Brian\Documents\alfresco\cheetah\wcmqs-devguide\wcmqs-basic-model-cropped.png"/>
          <p:cNvPicPr/>
          <p:nvPr/>
        </p:nvPicPr>
        <p:blipFill>
          <a:blip r:embed="rId2"/>
          <a:stretch/>
        </p:blipFill>
        <p:spPr>
          <a:xfrm>
            <a:off x="487440" y="779400"/>
            <a:ext cx="8169120" cy="5211720"/>
          </a:xfrm>
          <a:prstGeom prst="rect">
            <a:avLst/>
          </a:prstGeom>
          <a:ln w="0">
            <a:noFill/>
          </a:ln>
        </p:spPr>
      </p:pic>
      <p:sp>
        <p:nvSpPr>
          <p:cNvPr id="1128" name="TextBox 3"/>
          <p:cNvSpPr/>
          <p:nvPr/>
        </p:nvSpPr>
        <p:spPr>
          <a:xfrm>
            <a:off x="1695960" y="190188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sit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9" name="TextBox 5"/>
          <p:cNvSpPr/>
          <p:nvPr/>
        </p:nvSpPr>
        <p:spPr>
          <a:xfrm>
            <a:off x="3441960" y="1881360"/>
            <a:ext cx="95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roo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0" name="TextBox 6"/>
          <p:cNvSpPr/>
          <p:nvPr/>
        </p:nvSpPr>
        <p:spPr>
          <a:xfrm>
            <a:off x="5343480" y="188136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s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1" name="TextBox 7"/>
          <p:cNvSpPr/>
          <p:nvPr/>
        </p:nvSpPr>
        <p:spPr>
          <a:xfrm>
            <a:off x="6683040" y="4216320"/>
            <a:ext cx="172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Coll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2" name="TextBox 8"/>
          <p:cNvSpPr/>
          <p:nvPr/>
        </p:nvSpPr>
        <p:spPr>
          <a:xfrm>
            <a:off x="3767040" y="4216320"/>
            <a:ext cx="105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3" name="TextBox 9"/>
          <p:cNvSpPr/>
          <p:nvPr/>
        </p:nvSpPr>
        <p:spPr>
          <a:xfrm>
            <a:off x="3573360" y="5732640"/>
            <a:ext cx="147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visitorFeedback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BDA7BC-5AD7-4257-9BB8-2A63D3EAA1A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6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Groups of assets that are uniquely named within the scope of a particular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Stat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Editor control over which assets are includ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Dynam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onfigured with a search query, maximum number of results, and a refresh period in minutes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The query is executed periodically (as configured), and the results are placed in the asset collection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MIS and Lucene support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37" name="Picture 3" descr=""/>
          <p:cNvPicPr/>
          <p:nvPr/>
        </p:nvPicPr>
        <p:blipFill>
          <a:blip r:embed="rId2"/>
          <a:stretch/>
        </p:blipFill>
        <p:spPr>
          <a:xfrm>
            <a:off x="5214960" y="1058760"/>
            <a:ext cx="2790720" cy="158112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38" name="Picture 4" descr=""/>
          <p:cNvPicPr/>
          <p:nvPr/>
        </p:nvPicPr>
        <p:blipFill>
          <a:blip r:embed="rId3"/>
          <a:stretch/>
        </p:blipFill>
        <p:spPr>
          <a:xfrm>
            <a:off x="5138640" y="3067200"/>
            <a:ext cx="3009960" cy="2647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156506-DB6C-4144-A549-EEFB24F6253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1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2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BB8ED85-E583-43CE-BC44-5DD6CA8CF67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5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6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47" name="Picture 3" descr=""/>
          <p:cNvPicPr/>
          <p:nvPr/>
        </p:nvPicPr>
        <p:blipFill>
          <a:blip r:embed="rId3"/>
          <a:stretch/>
        </p:blipFill>
        <p:spPr>
          <a:xfrm>
            <a:off x="415800" y="3322800"/>
            <a:ext cx="6689880" cy="59688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D515CC-ABF2-4EE1-978C-F8BDCAA4BFA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0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1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2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ACCE9B4-8A2D-46A8-BC81-EF5BEE8ACD1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4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5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56" name="Picture 2" descr=""/>
          <p:cNvPicPr/>
          <p:nvPr/>
        </p:nvPicPr>
        <p:blipFill>
          <a:blip r:embed="rId3"/>
          <a:stretch/>
        </p:blipFill>
        <p:spPr>
          <a:xfrm>
            <a:off x="179280" y="1131840"/>
            <a:ext cx="8829720" cy="471636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14:57:41Z</dcterms:created>
  <dc:creator>Linton Baddeley</dc:creator>
  <dc:description/>
  <dc:language>en-US</dc:language>
  <cp:lastModifiedBy>Brian Remmington</cp:lastModifiedBy>
  <cp:lastPrinted>2011-09-06T09:51:35Z</cp:lastPrinted>
  <dcterms:modified xsi:type="dcterms:W3CDTF">2011-09-09T08:28:58Z</dcterms:modified>
  <cp:revision>223</cp:revision>
  <dc:subject/>
  <dc:title>Slide 1</dc:title>
</cp:coreProperties>
</file>