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04889-B483-4366-AB3E-C721BEA55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4B199-40C8-4A5B-9859-2E9B85062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0D565-A954-45BD-9BF8-68BB22A4A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74E93-CF3B-4002-88D6-52BBBD5FB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5033C-24DF-4E6F-8035-A0977B583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4AD8C-7704-4189-8C9B-4DBC5D6D1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DFFB1-3E6E-47EA-B230-DA35457A1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46BA7-172E-4B4B-A975-B9726D9AE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E0036-76C7-4F4D-9CEE-F43AEE23F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ED17F-5720-4951-8A58-1BCDB8DE5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6A320-8A78-4848-989A-EF3E789D2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CC0FE-AC5B-4849-94BC-59279C50B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B5CEB-94A5-42BA-B594-3CDE52DCA92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9:41Z</dcterms:modified>
  <cp:revision>3</cp:revision>
  <dc:subject/>
  <dc:title>Test content</dc:title>
</cp:coreProperties>
</file>