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C3B35-6830-41BD-AC7B-EA0912661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88F9D-9817-4F4E-B136-DE735D461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0647B-A0E9-47BA-9865-062105026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AD150-EDC1-44A1-BFC2-360B5EC7C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87F9A-1833-4A18-A803-FDF1C8C08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27F30-3EB3-4291-9636-0BB12BC02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E9798-FC57-41B9-B76C-D6D3DB466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5DC73-CAC0-4D54-9711-36816AAF3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8DAC9-1E1C-488F-AC7F-F2A36A547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05180-1FC3-4018-A93B-904EA1B92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BFB93-BD43-4600-AE19-596DE34D8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DE269-525F-4768-B0F4-5B97022BA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78C88-4488-4F68-8F50-BE38EF88A71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09Z</dcterms:modified>
  <cp:revision>4</cp:revision>
  <dc:subject/>
  <dc:title>Test content</dc:title>
</cp:coreProperties>
</file>