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70C1A-1FA8-4792-94CC-1F77A6601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85D76-0DCB-4348-93A1-30CFEAACA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9FF74-29E3-476C-8779-881AB3C02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01217-FC26-4265-8D8B-3F1596609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D8FAC-4251-4FAD-BF9A-8F9351D75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AFCC0-A9C5-4F72-BEAB-E778D760D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66B46-67A7-453F-82AA-9654FBD46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DABD9-81FB-45B8-B698-B0313182C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15235-9838-4664-9A09-E2B3356D3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D5461-31BD-4CAB-9C5D-35459099F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61A7B-E1ED-4BF8-83CC-FA3BF453F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98001-277D-4FCE-B76E-1C5010F49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E3B02-A572-410B-BBDE-D0F1402B52E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2</cp:lastModifiedBy>
  <dcterms:modified xsi:type="dcterms:W3CDTF">2013-08-30T08:28:15Z</dcterms:modified>
  <cp:revision>3</cp:revision>
  <dc:subject/>
  <dc:title>Test content</dc:title>
</cp:coreProperties>
</file>